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3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move the slid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99392-F0B6-4E05-9E9F-77E8A8C56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D4F82-AB34-4458-AB5B-ABFC13D23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38BC-433C-4769-A5FA-FFD24407D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2C038-3531-42DE-83EE-DD95AFC360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7B3D6-89E0-4729-BF49-AD45BFFFF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14CD-DA08-417B-908E-AD8B867EBF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EC0D-56D0-4235-AF5F-2BFEC1DCC1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F5DF9-DC11-4176-A15B-2342CA2098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900F-9C94-477F-8FD9-6BC3DC064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64FE-3DC7-4C1C-9B44-4FCB6E6A86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8C1D-1AF2-474E-81EA-DE37D373C6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C65D-E2F2-4E5A-B598-013EF20A24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CD06-D7A2-4E3C-823E-A4402DB29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C021-024C-40A1-8815-C9F999DB9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9F345-1C55-4A14-9A46-B14C61444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8099-EFAD-4818-973F-BED2DDA2A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D9791-366E-4987-BD88-10E1AC763E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6117-FDC9-48AE-9CD0-8AFE845C9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B079-E03C-4744-85EA-F21866506D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CCA9-DB65-4431-9A47-4701F80E2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A861-4739-4683-A98D-1B18BF1DD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2F07-3496-4772-95F9-5E38C005C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86DF-8E44-431A-A645-CC5769B16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DFE25-3BA0-48C0-A0FC-AD867CB61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96D01-2958-4045-BEB4-304502AE9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E2A1-0016-442B-84B5-87EC825AD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83A7-2466-47F9-AAAC-99C6469EF8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B356-21AB-47C1-8E6E-B389C3979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8E0C0-3B35-4191-BB85-3D8F32B31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AF89-8076-4FEA-A8B1-BE78BB4AF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0D71-DB5D-44F0-A382-2E6B943AE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D92B-7454-461F-A94E-2D374F0E35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2FE0-2E05-4E4C-93BB-9A93CFB91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8C09-7899-45F7-A058-2D92EF31B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5D0FD-13EF-45A5-8DA2-84E768C55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4B18-A83D-4E1F-8FE3-A6B6111DB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B0675-CD71-490D-B08A-7E9735BA52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B3C5-DBF9-44CB-8420-3F6B5E5482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9F9C1-EB27-432E-97A8-F2AE931DD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49CE5-34C3-4F72-9865-EF05436E1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C12E6-5C90-40F4-BE8F-8AA1C79A8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7B880-8908-4286-BDA9-58CF452C0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F8A7-DAB1-4506-9E6F-89A78520D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EEE90-E11F-468D-8135-1B145F088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7AD54-10F3-459C-9277-356681109D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EA080-D620-4AD0-9106-7B6B461DF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1D24E-2C60-4530-AC88-4643809A2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303C-B97B-4447-8320-A403FE5B5F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D4861-1DD9-4DE9-8E6D-87985BDF37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843B0-2BF2-42A2-B27B-EA1FBB722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4CFC4-2758-40FB-9ED0-A76B0D2D6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E9E99-A276-4ED5-8AB0-1BEA3AEC4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3EA94-2DD0-4270-8B43-B93515A65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4831-B31A-480D-AD85-FFB44A6626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1866-BADF-4856-B3E9-B895A1C9E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4EE0-0048-4A02-BACC-91A97D16E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A03A3-251B-44B0-ABE3-0ECE32AC9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4FBF-66F5-4BEB-AAC9-C7E259CBEE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318C3-BD8D-4E26-97A8-F5B0C7D8B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A0795-DD78-4D70-ABA6-F30C0ED14D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4BDF-42A9-43E0-A44F-613E622F8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AD4D-20C9-4F60-B035-27C892CADA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3697-BFF3-4F2C-8541-A46ED71080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F4EAB-448D-4C72-825E-BECFD8B22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541CF-C99C-4E96-9C0D-9890F39D4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D3909-8B5B-4133-B9B2-9732AC6837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8E51A-0538-47E2-AC39-DE13174A4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56BC7-BD46-4467-B7E2-8A8617B70C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45046-57B8-4212-9D4F-ADFF5DE1AA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6DCD3-E895-4C7C-BC9E-D6B529A6B2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3213C-860D-4870-8AE7-284D1A941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35E50-94D8-4B73-8590-75A8B00972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968E7-D23D-4DF2-AEF3-054BDC714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95113-39AF-4CF1-B9EF-878A66189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53E3CE-2523-42DC-927D-A0C7D98970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0F178-A3AD-4265-97B3-C649020A4E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9E940A4-9025-4859-8684-3EBB96EDD56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609480" y="152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609480" y="1219320"/>
            <a:ext cx="815364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4281480" y="0"/>
            <a:ext cx="4848120" cy="6031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Lucida Sans Unicode"/>
              </a:rPr>
              <a:t>Chapter 13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32767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Lucida Sans Unicode"/>
              </a:rPr>
              <a:t>Concurrenc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1BA1868-D743-4BBD-9671-32E49810DD1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Kinds of synchroniza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Cooperation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Task A must wait for task B to complete some specific activity before task A can continue its execution, e.g., the producer-consumer problem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Competition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Two or more tasks must use some resource that cannot be simultaneously used, e.g., a shared counte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ompetition is usually provided by mutually exclusive access  (approaches are discussed later)          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2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14EEE13-F75E-41C5-A4F8-E7AAC1C7625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Need for Competition Synchronization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7238880" cy="295416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685800" y="16002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Task A: </a:t>
            </a:r>
            <a:r>
              <a:rPr b="0" lang="en-US" sz="2000" spc="-1" strike="noStrike">
                <a:solidFill>
                  <a:srgbClr val="666699"/>
                </a:solidFill>
                <a:latin typeface="Courier New"/>
                <a:ea typeface="Courier New"/>
              </a:rPr>
              <a:t>TOTAL = TOTAL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Task B: </a:t>
            </a:r>
            <a:r>
              <a:rPr b="0" lang="en-US" sz="2000" spc="-1" strike="noStrike">
                <a:solidFill>
                  <a:srgbClr val="666699"/>
                </a:solidFill>
                <a:latin typeface="Courier New"/>
                <a:ea typeface="Courier New"/>
              </a:rPr>
              <a:t>TOTAL = 2 * TO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914400" y="57913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Times New Roman"/>
              </a:rPr>
              <a:t>- Depending on order, there could be four different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2AB0E99-6029-4559-900E-B1C25690F9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Scheduler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1532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oviding synchronization requires a mechanism for delaying task execu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ask execution control is maintained by a program called the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scheduler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, which maps task execution onto available processo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3788D5E-944D-40ED-A998-BAFCF77543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ask Execution Stat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315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New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- created but not yet start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eady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- ready to run but not currently running (no available processor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Running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Blocked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- has been running, but cannot now continue (usually waiting for some event to occur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Dead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- no longer active in any sens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ask Execution States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7754C52-EF88-426C-9741-AB9CBA3C52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CA1DF70-5E77-4E2A-AC27-F22706CA1A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iveness and Deadlock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Livenes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a characteristic that a program unit may or may not have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- In sequential code, it means the unit will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eventually complete its execu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 a concurrent environment, a task can easily lose its livenes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f all tasks in a concurrent environment lose their liveness, it is called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deadlock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1830B6D-CD72-4A80-AF51-CA591E2641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Design Issues for Concurrency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mpetition and cooperation synchronization*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ntrolling task schedul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How can an application influence task schedul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How and when tasks start and end execu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How and when are tasks creat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* The most important issu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3271B4E-0233-4340-815E-3EB1F82E6EB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Methods of Providing Synchronization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maphor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Monito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Message Pass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5ABE27E-1010-42A7-990D-244F0C41F3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emaphores 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Dijkstra - 1965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semaphore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s a data structure consisting of a counter and a queue for storing task descripto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 task descriptor is a data structure that stores all of the relevant information about the execution state of the task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emaphores can be used to implement guards on the code that accesses shared data structur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emaphores have only two operations,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wai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and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release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(originally called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P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and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V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by Dijkstra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emaphores can be used to provide both competition and cooperation synchroniza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8900C8E-F591-408A-9360-EC33D5798E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Cooperation Synchronization with Semaphore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xample: A shared buffe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buffer is implemented as an ADT with the operations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DEPOSI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and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FETCH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as the only ways to access the buffe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Use two semaphores for cooperation: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emptyspot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and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fullspo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semaphore counters are used to store the numbers of empty spots and full spots in the buffe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B77A15A-103C-4C17-B54E-3AB67356F1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hapter 13 Topic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troduc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troduction to Subprogram-Level Concurrenc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emaphor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onito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essage Pass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da support for Concurrenc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Java Thread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# Thread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oncurrency in Functional Languag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tatement-Level Concurrenc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AF36CFB-A35C-4C69-927B-2C1F05CC634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Cooperation Synchronization with Semaphores (continued)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DEPOSI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must first check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emptyspot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to see if there is room in the buffe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f there is room, the counter of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emptyspot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decremented and the value is insert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f there is no room, the caller is stored in the queue of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emptyspot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When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DEPOSI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finished, it must increment the counter of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fullspot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A909A81-C9C5-4049-86B4-EEDCAF62B6A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Cooperation Synchronization with Semaphores (continued)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FETCH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must first check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fullspot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to see if there is a valu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f there is a full spot, the counter of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fullspots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s decremented and the value is remov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f there are no values in the buffer, the caller must be placed in the queue of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fullspots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When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FETCH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s finished, it increments the counter of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mptyspot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operations of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FETCH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and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DEPOSI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on the semaphores are accomplished through two semaphore operations named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wai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and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releas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6E13ACC-B9CA-42BB-A09B-A864566F68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Semaphores: Wait and Release Operations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wait(aSemaphore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f aSemaphore’s counter &gt; 0 then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decrement aSemaphore’s counter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ut the caller in aSemaphore’s queu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ttempt to transfer control to a ready task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-- if the task ready queue is empty,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-- deadlock occurs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elease(aSemaphore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f aSemaphore’s queue is empty the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crement aSemaphore’s counter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ut the calling task in the task ready queu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transfer control to a task from aSemaphore’s queu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nd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B752D7E-C852-4DF5-99B0-5A882E9D6FD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roducer and Consumer Task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7696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semaphore fullspots, emptyspots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fullstops.count = 0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emptyspots.count = BUFLEN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task producer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loop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-- produce VALUE –-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wait (emptyspots); {wait for space}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DEPOSIT(VALUE)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release(fullspots); {increase filled}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end loop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end producer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task consumer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loop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wait (fullspots);{wait till not empty}}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FETCH(VALUE)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release(emptyspots); {increase empty}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-- consume VALUE 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–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-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end loop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end consumer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4F1709A-94BC-426D-8A92-05EEE926467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Competition Synchronization with Semaphores</a:t>
            </a:r>
            <a:br>
              <a:rPr sz="3200"/>
            </a:b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third semaphore, named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acces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, is used to control access (competition synchronization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counter of </a:t>
            </a: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access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will only have the values 0 and 1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uch a semaphore is called a </a:t>
            </a: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binary semaphor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Note that wait and release must be atomic!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8B4977C-384E-4287-8368-F2108ADD755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roducer Code for Semaphor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semaphore access, fullspots, emptyspots;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access.count = 0;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fullstops.count = 0;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mptyspots.count = BUFLEN;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task producer;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loop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-- produce VALUE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–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-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wait(emptyspots); {wait for space}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wait(access);     {wait for access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DEPOSIT(VALUE);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release(access); {relinquish access}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release(fullspots); {increase filled}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nd loop;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515880"/>
                <a:tab algn="l" pos="1031760"/>
                <a:tab algn="l" pos="1547640"/>
                <a:tab algn="l" pos="2063880"/>
                <a:tab algn="l" pos="2579760"/>
                <a:tab algn="l" pos="3095640"/>
                <a:tab algn="l" pos="3611520"/>
                <a:tab algn="l" pos="4127400"/>
                <a:tab algn="l" pos="4643280"/>
                <a:tab algn="l" pos="5159520"/>
                <a:tab algn="l" pos="5675400"/>
                <a:tab algn="l" pos="6191280"/>
                <a:tab algn="l" pos="6707160"/>
                <a:tab algn="l" pos="7223040"/>
                <a:tab algn="l" pos="7738920"/>
                <a:tab algn="l" pos="8255160"/>
                <a:tab algn="l" pos="8771040"/>
                <a:tab algn="l" pos="9286920"/>
                <a:tab algn="l" pos="9802800"/>
                <a:tab algn="l" pos="103186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nd producer;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93BDDEF-7249-452D-BA0A-42D0B00B1A7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onsumer Code for Semaphor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620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task consumer;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loop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wait(fullspots);{wait till not empty}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wait(access);   {wait for access}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FETCH(VALUE);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release(access); {relinquish access}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release(emptyspots); {increase empty}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-- consume VALUE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–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-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nd loop;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463680"/>
                <a:tab algn="l" pos="927000"/>
                <a:tab algn="l" pos="1390680"/>
                <a:tab algn="l" pos="1854360"/>
                <a:tab algn="l" pos="2317680"/>
                <a:tab algn="l" pos="2781360"/>
                <a:tab algn="l" pos="3244680"/>
                <a:tab algn="l" pos="3708360"/>
                <a:tab algn="l" pos="4172040"/>
                <a:tab algn="l" pos="4635360"/>
                <a:tab algn="l" pos="5099040"/>
                <a:tab algn="l" pos="5562720"/>
                <a:tab algn="l" pos="6026040"/>
                <a:tab algn="l" pos="6489720"/>
                <a:tab algn="l" pos="6953400"/>
                <a:tab algn="l" pos="7416720"/>
                <a:tab algn="l" pos="7880400"/>
                <a:tab algn="l" pos="8344080"/>
                <a:tab algn="l" pos="8807400"/>
                <a:tab algn="l" pos="927108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end consumer;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CB8406A-B488-48F0-87FC-7349F2ECCAD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valuation of Semaphor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Misuse of semaphores can cause failures in cooperation synchronization, e.g., the buffer will overflow if the wait of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fullspot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left ou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Misuse of semaphores can cause failures in competition synchronization, e.g., the program will deadlock if the release of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acces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left ou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D2A9435-7850-4C6C-8B29-A5845D69B5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Monitor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da, Java, C#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idea: encapsulate the shared data and its operations to restrict acces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monitor is an abstract data type for shared data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A871EBE-068F-401A-BC71-6D6A7CD3B3C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ompetition Synchroniza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hared data is resident in the monitor (rather than in the client units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ll access resident in the monito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onitor implementation guarantee synchronized access by allowing only one access at a tim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alls to monitor procedures are implicitly queued if the monitor is busy at the time of the call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B9D6D66-2F66-4903-94D1-AF92F8AA9A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Introduc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ncurrency can occur at four levels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achine instruction level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High-level language statement level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Unit level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rogram level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Because there are no language issues in instruction- and program-level concurrency, they are not addressed her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07982C3-5047-422B-9FA2-CFDF3E2BD16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ooperation Synchroniza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operation between processes is still a programming task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rogrammer must guarantee that a shared buffer does not experience underflow or overflow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  <p:pic>
        <p:nvPicPr>
          <p:cNvPr id="208" name="Picture 4" descr=""/>
          <p:cNvPicPr/>
          <p:nvPr/>
        </p:nvPicPr>
        <p:blipFill>
          <a:blip r:embed="rId1"/>
          <a:stretch/>
        </p:blipFill>
        <p:spPr>
          <a:xfrm>
            <a:off x="2895480" y="3429000"/>
            <a:ext cx="44960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7D2A44E-9FD2-4FB9-8D3C-81312BEC6EC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valuation of Monitor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better way to provide competition synchronization than are semaphor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maphores can be used to implement monito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Monitors can be used to implement semaphor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upport for cooperation synchronization is very similar as with semaphores, so it has the same problem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92434EB-6456-453D-B528-3C3EA53A39B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Message Passing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Message passing is a general model for concurrenc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t can model both semaphores and monito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t is not just for competition synchroniza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entral idea: task communication is like seeing a doctor--most of the time she waits for you or you wait for her, but when you are both ready, you get together, or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rendezvou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5BC9CC0-FDBE-44A6-9F79-E0B83204C64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Message Passing Rendezvou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o support concurrent tasks with message passing, a language needs: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A mechanism to allow a task to indicate when it is willing to accept messag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A way to remember who is waiting to have its message accepted and some “fair” way of choosing the next messag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When a sender task’s message is accepted by a receiver task, the actual message transmission is called a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rendezvous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AF15B25-DD68-4403-99A1-132C2C66DA7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da Support for Concurrency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Ada 83 Message-Passing Mod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da tasks have specification and body parts, like packages; the spec has the interface, which is the collection of entry points: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task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Task_Exampl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ntry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ENTRY_1 (Item :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Integer)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nd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Task_Example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2682890-A47B-4E29-97F0-C1B8D86038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ask Body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body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task describes the action that takes place when a rendezvous occu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task that sends a message is suspended while waiting for the message to be accepted and during the rendezvou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ntry points in the spec are described with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ccep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clauses in the bod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ccep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entry_name (formal parameters)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do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nd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entry_name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4B35EF9-5798-40D5-B4D4-D83923C11D4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99"/>
                </a:solidFill>
                <a:latin typeface="Lucida Sans Unicode"/>
              </a:rPr>
              <a:t>Example of a Task Body</a:t>
            </a:r>
            <a:endParaRPr b="0" lang="en-US" sz="40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task body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Task_Exampl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loop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ccept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Entry_1 (Item: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Float)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do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nd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Entry_1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nd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loop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nd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Task_Example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8E3B92D-E4FE-4DD6-8223-22DEE45DD8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da Message Passing Semantic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task executes to the top of th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ccep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clause and waits for a messag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uring execution of th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ccep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clause, the sender is suspend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ccep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parameters can transmit information in either or both direct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very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ccep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clause has an associated queue to store waiting messag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2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15FB42D-3F1C-4069-A722-2B1CDAE4B8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Rendezvous Time Lin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1371600" y="1295280"/>
            <a:ext cx="612468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E7B375B-6089-425A-8AA6-AE35729A631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Message Passing: Server/Actor Task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task that has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ccep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clauses, but no other code is called a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server task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(the example above is a server task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task without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ccep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clauses is called an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actor task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n actor task can send messages to other task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ote: A sender must know th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ntry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name of the receiver, but not vice versa (asymmetric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938F2D2-9BE5-4A57-BFDC-80D8EB795C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Multiprocessor Architectur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ate 1950s - one general-purpose processor and one or more special-purpose processors for input and output operati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arly 1960s - multiple complete processors, used for program-level concurrenc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id-1960s - multiple partial processors, used for instruction-level concurrenc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ingle-Instruction Multiple-Data (SIMD) machin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ultiple-Instruction Multiple-Data (MIMD) machines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primary focus of this chapter is shared memory MIMD machines (multiprocessors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2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D10555B-40C3-453F-9145-420DA98504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Graphical Representation of a Rendezvou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pic>
        <p:nvPicPr>
          <p:cNvPr id="248" name="Picture 4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37856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F8A671C-1D6B-4D6C-A9F5-B0DAD9D43C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Multiple Entry Point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asks can have more than on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ntry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poin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specification task has an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ntry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clause for each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task body has an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ccept</a:t>
            </a:r>
            <a:r>
              <a:rPr b="1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lause for each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ntry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clause, placed in a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elec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clause, which is in a loop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0F0C5C0-049C-47B8-A56D-74605C22D2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 Task with Multiple Entri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task body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Teller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is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loop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select 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accept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Drive_Up(</a:t>
            </a: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formal params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)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nd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Drive_Up;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or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accept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Walk_Up(</a:t>
            </a: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formal params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)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do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nd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Walk_Up;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nd select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nd loop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end</a:t>
            </a:r>
            <a:r>
              <a:rPr b="0" lang="en-US" sz="1800" spc="-1" strike="noStrike">
                <a:solidFill>
                  <a:srgbClr val="333399"/>
                </a:solidFill>
                <a:latin typeface="Courier New"/>
              </a:rPr>
              <a:t> Teller;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BF77165-490D-4FCE-9449-12FEA0B5C6E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Semantics of Tasks with Multiple </a:t>
            </a:r>
            <a:r>
              <a:rPr b="1" lang="en-US" sz="3200" spc="-1" strike="noStrike">
                <a:solidFill>
                  <a:srgbClr val="666699"/>
                </a:solidFill>
                <a:latin typeface="Courier New"/>
                <a:ea typeface="Courier New"/>
              </a:rPr>
              <a:t>accept</a:t>
            </a: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 Clause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f exactly on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ntry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queue is nonempty, choose a message from i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f more than on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ntry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queue is nonempty, choose one, nondeterministically, from which to accept a messag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f all are empty, wai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construct is often called a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selective wai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xtende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ccep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clause - code following the clause, but before the next claus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Executed concurrently with the caller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3EAE53D-0232-4AFF-B857-5700B33A7C9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Cooperation Synchronization with Message Passing</a:t>
            </a:r>
            <a:br>
              <a:rPr sz="3200"/>
            </a:b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ovided by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Guarded </a:t>
            </a:r>
            <a:r>
              <a:rPr b="1" lang="en-US" sz="2800" spc="-1" strike="noStrike">
                <a:solidFill>
                  <a:srgbClr val="666699"/>
                </a:solidFill>
                <a:latin typeface="Courier New"/>
              </a:rPr>
              <a:t>accept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 claus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when not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Full(Buffer) =&gt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ccep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Deposit (New_Value)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do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n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ccep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clause with a with a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when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clause is either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open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or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clos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clause whose guard is true is called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ope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clause whose guard is false is called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clos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clause without a guard is always ope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3B4B7F6-D0B6-4028-A18E-8A2FF9B665E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Semantics of </a:t>
            </a:r>
            <a:r>
              <a:rPr b="1" lang="en-US" sz="2800" spc="-1" strike="noStrike">
                <a:solidFill>
                  <a:srgbClr val="666699"/>
                </a:solidFill>
                <a:latin typeface="Courier New"/>
                <a:ea typeface="Courier New"/>
              </a:rPr>
              <a:t>select</a:t>
            </a: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 with Guarded </a:t>
            </a:r>
            <a:r>
              <a:rPr b="1" lang="en-US" sz="2800" spc="-1" strike="noStrike">
                <a:solidFill>
                  <a:srgbClr val="666699"/>
                </a:solidFill>
                <a:latin typeface="Courier New"/>
              </a:rPr>
              <a:t>accept</a:t>
            </a: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 Clauses: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elec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first checks the guards on all claus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f exactly one is open, its queue is checked for messag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f more than one are open, non-deterministically choose a queue among them to check for messag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f all are closed, it is a runtime erro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selec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clause can include an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lse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clause to avoid the erro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When th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lse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clause completes, the loop repeat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45AB0C9-6785-4E08-B839-D879B50A42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Competition Synchronization with Message Passing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Modeling mutually exclusive access to shared data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xample--a shared buffe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ncapsulate the buffer and its operations in a task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mpetition synchronization is implicit in the semantics of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ccep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claus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Only one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accep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clause in a task can be active at any given tim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artial Shared Buffer Cod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12952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task body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Buf_Task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is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Bufsize :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constant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Integer := 100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Buf :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array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(1..Bufsize)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of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Integer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Filled : Integer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range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0..Bufsize := 0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Next_In, Next_Out : Integer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range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1..Bufsize := 1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begin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loop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select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when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Filled &lt; Bufsize =&gt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accept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Deposit(Item :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in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Integer)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do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Buf(Next_In) := Item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end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Deposit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Next_In := (Next_In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mod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Bufsize) + 1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Filled := Filled + 1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or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end loop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25800" indent="-3258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end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Buf_Task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7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B9F0938-08B9-40A1-A360-4E6F8EDABAA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 Consumer Task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task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Consumer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task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body Consumer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is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Stored_Value : Integer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begin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loop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Buf_Task.Fetch(Stored_Value)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-- consume Stored_Value –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end loop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end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Consumer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7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C25F65B-E887-402E-961F-D54D0CB53E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C116830-556E-471B-8DBB-DD7351E661C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oncurrency in Ada 95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da 95 includes Ada 83 features for concurrency, plus two new featur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rotected objects: A more efficient way of implementing shared data to allow access to a shared data structure to be done without rendezvou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synchronous communica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C7746FD-70D5-4769-B2AA-2380E88B9E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ategories of Concurrency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ategories of Concurrency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Physical concurrency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- Multiple independent processors ( multiple threads of control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Logical concurrency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- The appearance of physical concurrency is presented by time-sharing one processor (software can be designed as if there were multiple threads of control)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routines (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quasi-concurrency) have a single thread of contro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thread of control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n a program is the sequence of program points reached as control flows through the program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185DECB-BACA-4DE8-9993-BA70A09BA20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da 95: Protected Object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protected objec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similar to an abstract data typ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ccess to a protected object is either through messages passed to entries, as with a task, or through protected subprogram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protected procedur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provides mutually exclusive read-write access to protected objec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Lucida Sans Unicode"/>
              </a:rPr>
              <a:t>protected function</a:t>
            </a: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 provides concurrent read-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only access to protected objec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F2973A0-8310-4211-B70A-5416DE4A4C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valuation of the Ada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Message passing model of concurrency is powerful and genera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otected objects are a better way to provide synchronized shared data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 the absence of distributed processors, the choice between monitors and tasks with message passing is somewhat a matter of tast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r distributed systems, message passing is a better model for concurrenc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9C10AA7-BDE5-4962-9F9F-AC120F8186A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Java Thread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concurrent units in Java are methods named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ru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un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method code can be in concurrent execution with other such method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The process in which the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un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methods execute is called a 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thread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lass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myThread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extends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Thread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ublic voi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run () {…}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Thread myTh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new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MyThread ()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myTh.start()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A63DC18-484C-4A36-BDBE-330579A3749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ontrolling Thread Execu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Thread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class has several methods to control the execution of thread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yield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s a request from the running thread to voluntarily surrender the processo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sleep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method can be used by the caller of the method to block the threa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join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method is used to force a method to delay its execution until the run method of another thread has completed its execu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78D4C37-A4CF-4A6A-99C6-4150ED447D6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hread Prioriti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thread’s default priority is the same as the thread that create i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f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main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creates a thread, its default priority i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NORM_PRIORITY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reads defined two other priority constants,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MAX_PRIORITY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an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MIN_PRIORITY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priority of a thread can be changed with the methods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setPriority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emaphores in Java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609120" y="1600200"/>
            <a:ext cx="8153640" cy="4572000"/>
          </a:xfrm>
          <a:prstGeom prst="rect">
            <a:avLst/>
          </a:prstGeom>
          <a:ln w="0">
            <a:noFill/>
          </a:ln>
        </p:spPr>
      </p:pic>
      <p:sp>
        <p:nvSpPr>
          <p:cNvPr id="30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463C08E-B249-4047-B2B1-A6DC27D672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A2DCB0C-D6BB-4077-A87E-1E8E2F5246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Competition Synchronization with Java Thread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method that includes the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synchronized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modifier disallows any other method from running on the object while it is in execu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…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public synchronized void deposit( int i) {…}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public synchronized int fetch() {…}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above two methods are synchronized which prevents them from interfering with each othe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f only a part of a method must be run without interference, it can be synchronized thru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synchronized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statemen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synchronized (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expression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)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statement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EB612BF-4334-4459-AD59-ECD02ED1C29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Cooperation Synchronization with Java Thread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operation synchronization in Java is achieved via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wai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,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notify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, and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notifyAll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method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ll methods are defined in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Objec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, which is the root class in Java, so all objects inherit them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wai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method must be called in a loop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notify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method is called to tell one waiting thread that the event it was waiting has happen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notifyAll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method awakens all of the threads on the object’s wait lis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C2A2E59-3751-4D9D-B44A-312C6067B9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Java’s Thread Evalua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Java’s support for concurrency is relatively simple but effectiv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Not as powerful as Ada’s task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AEF434F-6D17-4534-BAF4-B389C05CA3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# Thread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oosely based on Java but there are significant differenc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Basic thread operati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ny method can run in its own thread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 thread is created by creating a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Thread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object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Creating a thread does not start its concurrent execution;  it must be requested through the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Start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method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 thread can be made to wait for another thread to finish with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Joi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 thread can be suspended with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Sleep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 thread can be terminated with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Abort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BFC9933-546E-4549-A247-6D9C98CE0A0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Motivations for the Use of Concurrency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ultiprocessor computers capable of physical concurrency are now widely us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ven if a machine has just one processor, a program written to use concurrent execution can be faster than the same program written for nonconcurrent execu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volves a different way of designing software that can be very useful—many real-world situations involve concurrenc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any program applications are now spread over multiple machines, either locally or over a network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FF39D4C-52F6-4A7E-AE79-43F0486311B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Synchronizing Threads</a:t>
            </a:r>
            <a:br>
              <a:rPr sz="3200"/>
            </a:b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ree ways to synchronize C# thread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Interlocked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clas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Used when the only operations that need to be synchronized are incrementing or decrementing of an integer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lock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statemen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Used to mark a critical section of code in a thread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	</a:t>
            </a: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lock (expression) {… }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Monitor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clas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Provides four methods that can be used to provide more sophisticated synchronization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217DA82-157C-4B92-BCA3-23DED6E0F5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C#’s Concurrency Evaluation</a:t>
            </a:r>
            <a:br>
              <a:rPr sz="3200"/>
            </a:b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n advance over Java threads, e.g., any method can run its own threa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read termination is cleaner than in Java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ynchronization is more sophisticat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52FEBC6-C8A4-475A-97D8-B273526D839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tatement-Level Concurrency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Objective: Provide a mechanism that the programmer can use to inform compiler of ways it can map the program onto multiprocessor architectur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Minimize communication among processors and the memories of the other processo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89F94A2-3E40-4E17-81C2-992B9B18B4B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High-Performance Fortra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collection of extensions that allow the programmer to provide information to the compiler to help it optimize code for multiprocessor compute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pecify the number of processors, the distribution of data over the memories of those processors, and the alignment of data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F50FA33-6321-4C24-A5D7-D5DBA2C6C4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rimary HPF Specification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Number of processo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!HPF$ PROCESSORS procs (n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istribution of data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!HPF$ DISTRIBUTE (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kind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) ONTO procs ::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identifier_list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kind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can be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BLOCK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(distribute data to processors in blocks) or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CYCLIC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(distribute data to processors one element at a time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Relate the distribution of one array with that of anothe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ALIGN 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array1_element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 WITH 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array2_element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D5712FC-5747-425F-8175-5D0FD636BB9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Statement-Level Concurrency Example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REAL list_1(1000), list_2(1000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NTEGER list_3(500), list_4(501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!HPF$ PROCESSORS proc (10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!HPF$ DISTRIBUTE (BLOCK) ONTO procs ::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           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list_1, list_2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!HPF$ ALIGN list_1(index) WITH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list_4 (index+1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…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list_1 (index) = list_2(index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list_3(index) = list_4(index+1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79D0326-8EF3-4179-BC9F-8EF13261094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Statement-Level Concurrency (continued)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urier New"/>
              </a:rPr>
              <a:t>FORALL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statement is used to specify a list of statements that may be executed concurrentl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FORALL (index = 1:1000)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list_1(index) = list_2(index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pecifies that all 1,000 RHSs of the assignments can be evaluated before any assignment takes plac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5E2CD01-60C3-4F13-BC2F-AA46DAED67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ummary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oncurrent execution can be at the instruction, statement, or subprogram level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hysical concurrency: when multiple processors are used to execute concurrent unit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ogical concurrency: concurrent united are executed on a single processo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wo primary facilities to support subprogram concurrency: competition synchronization and cooperation synchroniza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echanisms: semaphores, monitors, rendezvous, thread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High-Performance Fortran provides statements for specifying how data is to be distributed over the memory units connected to multiple processo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FF34BAF-714D-4FFF-A42E-ADC4F2819F3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Introduction to Subprogram-Level Concurrency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task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or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proces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or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thread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a program unit that can be in concurrent execution with other program uni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asks differ from ordinary subprograms in that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task may be implicitly start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When a program unit starts the execution of a task, it is not necessarily suspend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When a task’s execution is completed, control may not return to the calle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asks usually work togethe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5EB85E9-4809-450F-BA1D-C1D0A5A6671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wo General Categories of Task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Heavyweight task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execute in their own address space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Lightweight task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all run in the same address space – more efficien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task is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disjoin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f it does not communicate with or affect the execution of any other task in the program in any way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D795DFD-443E-434A-94FF-C386FE227CD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ask Synchroniza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391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mechanism that controls the order in which tasks execut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wo kinds of synchroniza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Cooperation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synchroniza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Competition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synchroniza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ask communication is necessary for synchronization, provided by:</a:t>
            </a:r>
            <a:br>
              <a:rPr sz="28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Shared nonlocal variables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Parameters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Message pass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1T12:29:19Z</dcterms:created>
  <dc:creator>David Garrett</dc:creator>
  <dc:description/>
  <dc:language>en-US</dc:language>
  <cp:lastModifiedBy>Binod</cp:lastModifiedBy>
  <dcterms:modified xsi:type="dcterms:W3CDTF">2016-02-03T13:04:05Z</dcterms:modified>
  <cp:revision>51</cp:revision>
  <dc:subject/>
  <dc:title>Chapter 1</dc:title>
</cp:coreProperties>
</file>