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move the slid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64D4-AE85-472D-8E5C-7C2CBB7D3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B02A8-CF44-4321-AE6C-68D5AD178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63D7-F73E-4412-A228-D98647F82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414B-C4E0-4232-97F0-B208AEDB3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6096A-1F3E-4DC9-800A-2D971C930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54441-17F4-4F18-8537-6188CF51DA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E088-3AC3-4D25-A730-0A8054F712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4969C-9714-4936-897A-2866E77C11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58E2-4AC2-4DDB-904F-36A6E5A44E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28A1D-21A1-4016-AF6A-E55357EBB5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45F78-6FF4-4691-B18F-C14E51462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9154-D24E-499A-B253-31B7E26BC7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A771-8B3A-4C4C-A639-93CC50753F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9BC7-8125-41B0-ADD7-B0C237B9D5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B34A-EB49-4B84-BBB0-B460D8C81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A55E-279E-4302-A1CE-11A3864A99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3535-1A76-4227-9DDC-2D56105D31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691A-A913-46E1-9E0D-DE0273177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09FEA-733D-4185-AF43-BE08FFBD5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CFD4-4CA9-405B-B546-DD4B2AF21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7B0B8-E628-47C6-87DE-4165DCA1E1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80978-9388-4C07-9F0E-1C0B6DD14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96EF-4E73-4285-91D8-1E79A9444A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1A1E2-E21D-4221-8482-45D463736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EB7D5-0338-4726-9CDA-BAF6F14CDC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1EE95-0684-4E3E-AD67-625B5A7A7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D4D3-2D08-40AC-B8B2-1BD9238F7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9D851-BE99-49EF-83D9-A9623A443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5A8E0-A010-4F28-8777-CF7385BB3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55BB2-546A-4010-B6AD-0BBB5C268E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D616-24D8-4103-B422-CE457B6E1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4D44-90D4-4B16-AABC-9542ECBBE3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2DB9-A626-474A-9D4F-E1AE18646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A5FCA-8EB2-43B6-856C-9957E01DB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05F0-5865-4C1F-9B72-6BAECD3D5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E295-E3A7-47CF-A718-4C4987B81A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D6AD-D8A7-4244-A116-A5CDBB3197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57607-52CB-4867-84C6-8607FDB3B1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CA35-1EE8-4A8B-8690-B1B01C422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B44F-F777-44E0-B1EB-FD6B183D1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CC51-D29F-4F15-A801-7001C8E4C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F1B7-F16E-4210-B026-67FE92EDE5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A7EC-8AF3-4976-9FA3-A64329DF1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0DB4-FB67-4F0A-9320-A19CFF44C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9A5A-B2B9-4C42-8F44-A76A8ED0F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237B4-7CB7-4A6C-B7AB-D04187BFD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682E-7497-4E7A-9EBF-45D444DA6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54E6-7339-4450-A3A6-85D34D35C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8FB7-083B-4D86-85A6-1A42E49120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D3D5-4369-4CC8-AF0A-C2AAF1059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25AF-BA2F-4E48-95AA-C158E5B9C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A85C-D130-4AC7-9E62-DD8F01A4D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567B-F58C-4F94-8641-9E294F136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6BE52-E14F-474F-9ADC-878013519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E1E5-287F-493B-B2AC-68D32EB128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799A-2032-45A2-BF85-7BFB01AFD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0568F-3F5C-42C7-A270-BA3C4A155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838D1-C4D3-4917-A235-94AEEA309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FF14-CBDC-449D-8120-BC959CB09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F167-4B5C-4471-8A8A-588D6290B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C447-1AA4-49C4-BB45-A3A5BA09C3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EDF9-2912-43AB-8D26-E203AD9C6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DB80-EA25-4C87-B4F7-001786738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4392-98AE-4CC4-930C-BFC0767CE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C8EBD-611F-4BE7-8C22-8B6A22C93B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5151C-2E8B-4F30-AAF4-046BCD683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F013A-4F94-4C38-B242-252D0943B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8A3D0-7276-454D-A675-4E5B1AA15D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84235-EDDC-47BD-83ED-E154DF797F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A55C3-CF58-404E-907C-26506086B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E930-52EA-4240-8333-B49A1EE04F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1232-096F-47AC-9295-7ACC199D6B3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2A99-A165-4A3A-83EB-DE55C0A0DD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2427-033A-4BB5-9F6B-64D353F206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AE8E-0B8A-44E9-84DD-B474DB06B8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C98C-0B83-4EFA-A86D-9AF45FDA0C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1612-B384-46AB-B5C8-3E680F1F19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82CC2-9F0B-400C-907E-2E337C464D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C74F-DCE1-4CBA-B460-6716CDE3C2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F7C-4560-4BFE-A54A-E220E727C3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1298-DCF9-4F3C-BACB-C277194A78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AB74-9AD8-425C-8AF1-5FCFB0D839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81FF-6C4F-4C47-B9D1-BE003AFCA5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46453-B7A5-4894-AB8C-5D6A07332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10B84-6485-4DFE-A5CE-12BBE97A55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BDF27-0585-4ABC-BE46-51F0BE70F1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A2557-A545-4500-A8DE-25DB6B64F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5F8C5-166F-4185-B234-F3403A0E7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FC4A3-8E4B-4223-8CF0-598E1EE12D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9239E-4AD2-4571-8BDE-AB106A025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253D65C-B2DE-43C2-80D8-DF7EFE873C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6094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09480" y="1219320"/>
            <a:ext cx="8153640" cy="0"/>
          </a:xfrm>
          <a:prstGeom prst="line">
            <a:avLst/>
          </a:prstGeom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4281480" y="0"/>
            <a:ext cx="4848120" cy="6031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FDF9676-0D85-41D7-B12D-DEB4F32371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Lucida Sans Unicode"/>
              </a:rPr>
              <a:t>Chapter 2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32767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Lucida Sans Unicode"/>
              </a:rPr>
              <a:t>Evolution of the Major Programming Languag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86C9CE8-B02C-44DE-9DC5-B02BD70D8C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seudocodes: Speedcodin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peedcoding developed by Backus in 1954 for IBM 701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seudo ops for arithmetic and math func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nditional and unconditional branch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uto-increment registers for array acces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low!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Only 700 words left for user program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C4216BB-3686-4688-837B-BABCEDD573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seudocodes: Related System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UNIVAC Compiling Syste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eveloped by a team led by Grace Hoppe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seudocode expanded into machine cod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avid J. Wheeler (Cambridge University)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eveloped a method of using blocks of re-locatable addresses to solve the problem of absolute address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3368641-31AA-4548-AD77-986446421D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BM 704 and Fortra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ortran 0: 1954 - not implement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ortran I:1957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Designed for the new IBM 704, which had index registers and floating point hardwar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- This led to the idea of compiled programming    languages, because there was no place to hide the cost of interpretation (no floating-point software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Environment of developmen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Computers were small and unreliable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Applications were scientific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No programming methodology or tools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Machine efficiency was the most important concern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5FC1F05-208F-40B7-A997-47BB89B900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Design Process of Fortra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mpact of environment on design of Fortran I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o need for dynamic storag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eed good array handling and counting loop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o string handling, decimal arithmetic, or powerful input/output (for business software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148704F-2A1E-4222-8A67-65951442ED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ortran I Overview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rst implemented version of Fortra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ames could have up to six characte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ost-test counting loop (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DO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ormatted I/O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User-defined subprogram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ree-way selection statement (arithmetic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o data typing statemen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0EB3C25-D4A8-4612-AE48-54A139EF84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ortran I Overview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rst implemented version of FORTRAN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o separate compil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mpiler released in April 1957, after 18 worker-years of effor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rograms larger than 400 lines rarely compiled correctly, mainly due to poor reliability of 704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de was very fas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Quickly became widely us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4A13C85-39D4-458C-8C72-587CF8BEBD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ortran II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istributed in 1958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dependent compil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ixed the bug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4FF42D9-339D-4C37-9D52-6B4E5A075F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ortran IV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volved during 1960-62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xplicit type declara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ogical selection stateme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ubprogram names could be paramete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NSI standard in 1966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03B1F68-E069-4C7D-948B-8AD6DF85B8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ortran 77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ecame the new standard in 1978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haracter string handl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ogical loop control stateme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F-THEN-ELS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stateme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E317EA1-8BC7-4117-8303-7FE1C519C5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ortran 90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ost significant changes from Fortran 77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odul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ynamic array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ointe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ecurs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CAS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stateme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arameter type check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AE52BDE-3768-4910-B38D-DA874FFC8F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hapter 2 Topic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Zuse’s Plankalkü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inimal Hardware Programming: Pseudocod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IBM 704 and Fortra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unctional Programming: Lisp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First Step Toward Sophistication: ALGOL 60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mputerizing Business Records: COBO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Beginnings of Timesharing: Basic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589076E-A35D-4117-9425-06D0460DB4B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666699"/>
                </a:solidFill>
                <a:latin typeface="Lucida Sans Unicode"/>
              </a:rPr>
              <a:t>Latest versions of Fortra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Lucida Sans Unicode"/>
              </a:rPr>
              <a:t>Fortran 95 – relatively minor additions, plus some dele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Lucida Sans Unicode"/>
              </a:rPr>
              <a:t>Fortran 2003 – support for OOP, procedure pointers, interoperability with C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333399"/>
                </a:solidFill>
                <a:latin typeface="Lucida Sans Unicode"/>
              </a:rPr>
              <a:t>Fortran 2008 – blocks for local scopes, co-arrays, </a:t>
            </a:r>
            <a:r>
              <a:rPr b="0" lang="es-MX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Do Concurre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A79B2CE-99DE-4380-B460-A9D3212A88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ortran Evalu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Highly optimizing compilers (all versions before 90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ypes and storage of all variables are fixed before run tim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ramatically changed forever the way computers are us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296FB60-FDB3-43DA-9E60-D91B284E14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unctional Programming: Lisp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ISt Processing languag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esigned at MIT by McCarth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I research needed a language to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rocess data in lists (rather than arrays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ymbolic computation (rather than numeric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nly two data types: atoms and lis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yntax is based on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lambda calculu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2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C3C7937-FE00-46C4-8FD5-E3887AD273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92504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Representation of Two Lisp List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179" name="Picture 4" descr=""/>
          <p:cNvPicPr/>
          <p:nvPr/>
        </p:nvPicPr>
        <p:blipFill>
          <a:blip r:embed="rId1"/>
          <a:stretch/>
        </p:blipFill>
        <p:spPr>
          <a:xfrm>
            <a:off x="1428840" y="1444680"/>
            <a:ext cx="5734080" cy="379548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1045080" y="5072040"/>
            <a:ext cx="41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Representing the lists </a:t>
            </a:r>
            <a:r>
              <a:rPr b="1" lang="es-MX" sz="1800" spc="-1" strike="noStrike">
                <a:solidFill>
                  <a:srgbClr val="000000"/>
                </a:solidFill>
                <a:latin typeface="Courier New"/>
              </a:rPr>
              <a:t>(A B C 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1" lang="es-MX" sz="1800" spc="-1" strike="noStrike">
                <a:solidFill>
                  <a:srgbClr val="000000"/>
                </a:solidFill>
                <a:latin typeface="Courier New"/>
              </a:rPr>
              <a:t>(A (B C) D (E (F G)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D71DBB0-217E-4A06-B7E1-7569810267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isp Evalu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ioneered functional programm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o need for variables or assignme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ntrol via recursion and conditional express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till the dominant language for AI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mmon Lisp and Scheme are contemporary dialects of Lisp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L, Haskell, and F# are also functional programming languages, but use very different syntax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D43D656-961A-489A-8B52-8014009CAA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Scheme</a:t>
            </a: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veloped at MIT in mid 1970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mal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tensive use of static scop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unctions as first-class entiti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mple syntax (and small size) make it ideal for educational applica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01CED17-CE30-411F-A0BB-8062B83F51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mmon Lisp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effort to combine features of several dialects of Lisp into a single languag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arge, complex, used in industry for some large applica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F12E974-3E33-4EEF-890C-3677D4BB05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The First Step Toward Sophistication: ALGOL 60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nvironment of developme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ORTRAN had (barely) arrived for IBM 70x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any other languages were being developed, all for specific machin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o portable language; all were machine-              depende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o universal language for communicating algorithm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LGOL 60 was the result of efforts to design a universal languag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5C6D185-491A-4092-B2BF-0AFBA8B939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arly Design Proces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CM and GAMM met for four days for design (May 27 to June 1, 1958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Goals of the languag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lose to mathematical not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Good for describing algorithm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ust be translatable to machine cod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249B833-4D95-442B-9B96-8078CFA969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LGOL 58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ncept of type was formaliz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ames could be any length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rrays could have any number of subscrip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arameters were separated by mode (in &amp; out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ubscripts were placed in bracke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mpound statements (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begin ... end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emicolon as a statement separato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ssignment operator was :=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had an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else-if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laus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o I/O - “would make it machine dependent”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44BED06-24E8-4657-94C8-D11590D911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hapter 2 Topics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verything for Everybody: PL/I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wo Early Dynamic Languages: APL and SNOBO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Beginnings of Data Abstraction: SIMULA 67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rthogonal Design: ALGOL 68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ome Early Descendants of the ALGOL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gramming Based on Logic: Prolo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History's Largest Design Effort: Ada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DAB9A6A-CEB0-423A-A95B-3C6CC545A6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LGOL 58 Implement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Not meant to be implemented, but variations of it were (MAD, JOVIAL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lthough IBM was initially enthusiastic, all support was dropped by mid 1959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34492F3-3D4E-40B3-AB6E-486A24DFEC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LGOL 60 Overview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odified ALGOL 58 at 6-day meeting in Pari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New featur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Block structure (local scope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wo parameter passing method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ubprogram recurs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tack-dynamic array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till no I/O and no string handl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13D46E7-5B9E-4925-AAA1-1176E66AEC5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LGOL 60 Evalu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uccess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t was the standard way to publish algorithms for over 20 yea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ll subsequent imperative languages are based on i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irst machine-independent languag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irst language whose syntax was formally defined (BNF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4DB6DD9-EA53-4E53-827F-B051AFFD7D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LGOL 60 Evaluation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ailur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ever widely used, especially in U.S.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eas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Lack of I/O and the character set made programs non-portable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Too flexible--hard to implement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Entrenchment of Fortran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Formal syntax description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Lack of support from IBM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F47E766-E67B-4816-9290-8D10B42FA6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Computerizing Business Records: COBOL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nvironment of developme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UNIVAC was beginning to use FLOW-MATIC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USAF was beginning to use AIMACO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BM was developing COMTRA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6417B41-C213-4A92-BCC7-B5C4639D37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BOL Historical Background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ased on FLOW-MATIC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LOW-MATIC featur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ames up to 12 characters, with embedded hyphe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nglish names for arithmetic operators (no arithmetic expressions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ata and code were completely separat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first word in every statement was a verb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40D4561-DC0D-4493-BED1-573EAFF093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BOL Design Proces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irst Design Meeting (Pentagon) - May 1959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esign goal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Must look like simple English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Must be easy to use, even if that means it will be less powerfu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Must broaden the base of computer user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Must not be biased by current compiler problem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esign committee members were all from computer manufacturers and DoD branch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esign Problems: arithmetic expressions? subscripts?  Fights among manufacture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AB5910D-87F9-4B29-982C-5E745C7FA5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BOL Evalu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ntribu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irst macro facility in a high-level languag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Hierarchical data structures (records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ested selection statemen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ong names (up to 30 characters), with hyphe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eparate data divis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C275428-7DD4-4C55-8DD0-95CD03C327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BOL: DoD Influenc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rst language required by Do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ould have failed without Do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till the most widely used business applications languag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9C62F9E-ADB2-446B-A786-8798580FE6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The Beginning of Timesharing: Basic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signed by Kemeny &amp; Kurtz at Dartmouth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sign Goal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asy to learn and use for non-science studen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ust be “pleasant and friendly”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ast turnaround for homework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ree and private acces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User time is more important than computer tim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urrent popular dialect:  Visual Basic  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rst widely used language with time sharing  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AFB0E5F-195B-40A7-A6D9-50D4A67633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hapter 2 Topics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bject-Oriented Programming: Smalltalk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mbining Imperative ad Object-Oriented Features: C++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Imperative-Based Object-Oriented Language: Java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cripting Languag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Flagship .NET Language: C#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arkup/Programming Hybrid Languag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A12ED07-EB9B-495E-B2FD-C78CA206AD0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2.8 Everything for Everybody: PL/I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signed by IBM and SHAR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mputing situation in 1964 (IBM's point of view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cientific comput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IBM 1620 and 7090 computers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FORTRAN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SHARE user group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Business comput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IBM 1401, 7080 computers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COBOL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GUIDE user group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638DE13-F5E8-49E8-88FC-017282A6B7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L/I: Background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y 1963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cientific users began to need more elaborate I/O, like COBOL had;  business users began to need floating point and arrays for MIS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t looked like many shops would begin to need two kinds of computers, languages, and support staff--too costl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obvious solu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Build a new computer to do both kinds of applica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esign a new language to do both kinds of applica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C1B35DE-C70D-4B56-9FFB-7D6D24AAFC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L/I: Design Proces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signed in five months by the 3 X 3 Committe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ree members from IBM, three members from SHAR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itial concep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n extension of Fortran IV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itially called NPL (New Programming Language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Name changed to PL/I in 1965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F4DCA8C-4A77-436A-8825-EDB0E9D902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L/I: Evalu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L/I contribu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irst unit-level concurrenc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irst exception handl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witch-selectable recurs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irst pointer data typ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irst array cross sec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ncer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any new features were poorly design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oo large and too complex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0C47246-F451-401E-9715-F75B831D3A5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Two Early Dynamic Languages: APL and SNOBOL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haracterized by dynamic typing and dynamic storage alloca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Variables are untyp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variable acquires a type when it is assigned a valu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torage is allocated to a variable when it is assigned a valu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D38DEED-37A4-441E-9D0E-1802A41CCC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PL: A Programming Languag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signed as a hardware description language at IBM by Ken Iverson around 1960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Highly expressive (many operators, for both  scalars and arrays of various dimensions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rograms are very difficult to rea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till in use; minimal chang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F9EA1AF-7E24-4D0B-BA2F-3C52D45980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NOBOL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signed as a string manipulation language at Bell Labs by Farber, Griswold, and Polensky in 1964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owerful operators for string pattern match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lower than alternative languages (and thus no longer used for writing editors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till used for certain text processing task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47D3EBB-5EF8-452E-9F39-2A955B9B36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The Beginning of Data Abstraction: SIMULA 67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signed primarily for system simulation in Norway by Nygaard and Dah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ased on ALGOL 60 and SIMULA I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imary Contribu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routines - a kind of subprogram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lasses, objects, and inheritanc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B1A1DA5-7E01-4FAE-8C98-218BAF9C3D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Orthogonal Design: ALGOL 68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rom the continued development of ALGOL 60 but not a superset of that languag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ource of several new ideas (even though the language itself never achieved widespread use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sign is based on the concept of orthogonalit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few basic concepts, plus a few combining mechanism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D59DD1A-831C-4A1C-9956-1232E8BDA6B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LGOL 68 Evalu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ntribu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User-defined data structur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eference typ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ynamic arrays (called flex arrays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mmen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ess usage than ALGOL 60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Had strong influence on subsequent languages, especially Pascal, C, and Ada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2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EB517DC-4ED9-4347-A3F0-583B5432AF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Genealogy of Common Languag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2894040" y="1295280"/>
            <a:ext cx="407520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F94C0C9-F7B6-4FC7-9CD7-7AF23D534D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ascal - 1971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veloped by Wirth (a former member of the ALGOL 68 committee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signed for teaching structured programm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mall, simple, nothing really new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argest impact was on teaching programm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rom mid-1970s until the late 1990s, it was the  most widely used language for teaching programm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9C68A73-08FC-40E0-A7AC-D665A017C1D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 - 1972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signed for systems programming (at Bell Labs by Dennis Richie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volved primarily from BCLP and B, but also ALGOL 68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owerful set of operators, but poor type check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itially spread through UNIX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ough designed as a systems language, it has been used in many application area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2BD18E9-54FB-4970-A628-578F77D442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rogramming Based on Logic: Prolo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veloped, by Comerauer and Roussel (University of Aix-Marseille), with help from Kowalski ( University of Edinburgh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ased on formal logic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Non-procedura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an be summarized as being an intelligent database system that uses an inferencing  process to infer the truth of given queri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mparatively inefficie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ew application area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7E803F5-D666-4E01-9901-87786076F5F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History’s Largest Design Effort: Ada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Huge design effort, involving hundreds of people, much money, and about eight yea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quence of requirements (1975-1978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(Strawman, Woodman, Tinman, Ironman, Steelman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Named Ada after Augusta Ada Byron, the first programm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EBE0B93-980F-43C8-9F2F-1D26D1FC52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da Evalu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ntribu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ackages - support for data abstrac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Exception handling - elaborate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Generic program unit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oncurrency - through the tasking mode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mmen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ompetitive desig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Included all that was then known about software engineering and language desig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First compilers were very difficult; the first really usable compiler came nearly five years after the language design was complete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DFB9D32-0FFA-44A9-AE67-21D2DE17EC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da 95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da 95 (began in 1988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upport for OOP through type deriv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Better control mechanisms for shared data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ew concurrency featur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ore flexible librari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da 2005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terfaces and synchronizing interfac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opularity suffered because the DoD no longer requires its use but also because of popularity of C++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0CEFFC0-44EC-4D1B-8228-63AD308C68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Object-Oriented Programming: Smalltalk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veloped at Xerox PARC, initially by Alan Kay, later by Adele Goldber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rst full implementation of an object-oriented language (data abstraction, inheritance, and dynamic binding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ioneered the graphical user interface desig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moted OOP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0030A8F-BD81-446D-B8BC-169B72B953D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Combining Imperative and Object-Oriented Programming: C++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eveloped at Bell Labs by Stroustrup in 1980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volved from C and SIMULA 67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acilities for object-oriented programming, taken partially from SIMULA 67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large and complex language, in part because it supports both procedural and OO programm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apidly grew in popularity, along with OOP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NSI standard approved in November 1997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icrosoft’s version: MC++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roperties, delegates, interfaces, no multiple inheritanc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42A4152-95FC-49DF-833A-6FAC8770CDD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 Related OOP Languag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bjective-C (designed by Brad Cox – early 1980s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 plus support for OOP based on Smalltalk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Uses Smalltalk’s method calling syntax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Used by Apple for systems program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FD6DD7E-7C4C-4177-B0D6-D4C068D8EDF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An Imperative-Based Object-Oriented Language: Java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veloped at Sun in the early 1990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 and C++ were not satisfactory for embedded electronic devic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ased on C++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ignificantly simplified (does not include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struct, union, enum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, pointer arithmetic, and half of the assignment coercions of C++)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upports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only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OOP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Has references, but not pointe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cludes support for applets and a form of  concurrenc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3AE17C2-2955-4421-87B6-BE9EC8995A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Zuse’s Plankalkül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signed in 1945, but not published until 1972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Never implement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dvanced data structur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loating point, arrays, record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varian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20CE0B4-E8E9-46DA-B620-9BA718DF33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Java Evalu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liminated many unsafe features of C++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upports concurrenc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ibraries for applets, GUIs, database acces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ortable: Java Virtual Machine concept, JIT compile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Widely used for Web programm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se increased faster than any previous languag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ost recent version, 8, released in 2014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92539A5-4CFD-4D93-81CF-585CF22F060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cripting Languages for the Web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Perl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Designed by Larry Wall—first released in 1987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Variables are statically typed but implicitly declared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Three distinctive namespaces, denoted by the first character of a 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90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variable’s name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Powerful, but somewhat dangerous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Gained widespread use for CGI programming on the Web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Also used for a replacement for UNIX system administration language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JavaScript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Began at Netscape, but later became a joint venture of Netscape and Sun Microsystems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A client-side HTML-embedded scripting language, often used to create dynamic HTML documents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Purely interpreted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Related to Java only through similar syntax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PHP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PHP: Hypertext Preprocessor, designed by Rasmus Lerdorf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A server-side HTML-embedded scripting language, often used for form processing and database access through the Web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Purely interpreted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cripting Languages for the Web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Python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An OO interpreted scripting language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Type checked but dynamically typed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Used for CGI programming and form processing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Dynamically typed, but type checked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Supports lists, tuples, and hashes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Ruby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Designed in Japan by Yukihiro Matsumoto (a.k.a, “Matz”)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Began as a replacement for Perl and Python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A pure object-oriented scripting language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- All data are objects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Most operators are implemented as methods, which can be redefined by user code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Purely interpreted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3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659A02E-DAA7-4736-8BEC-2A52A33FF2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B27C61B-686C-43AE-A26F-344F2E21938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cripting Languages for the Web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Lua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An OO interpreted scripting language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Type checked but dynamically typed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Used for CGI programming and form processing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Dynamically typed, but type checked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Supports lists, tuples, and hashes, all with its single data structure, 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the table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Easily extendable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FBAA2F6-7781-4A34-9AED-F6F92D7E7E5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The Flagship .NET Language: C#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art of the .NET development platform (2000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ased on C++ , Java, and Delphi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cludes pointers, delegates, properties, enumeration types, a limited kind of dynamic typing, and anonymous typ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s evolving rapidl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50C74B5-CF35-4979-89CC-4502A7F278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Markup/Programming Hybrid Language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XSL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eXtensible Markup Language (XML): a metamarkup languag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eXtensible Stylesheet Language Transformation (XSTL) transforms XML documents for display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rogramming constructs (e.g., looping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JSP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Java Server Pages: a collection of technologies to support dynamic Web document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JSTL, a JSP library, includes programming constructs in the form of HTML element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DF87AAB-138A-4224-8DDA-1FA2175B10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ummar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velopment, development environment, and evaluation of a number of important programming languag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erspective into current issues in language desig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30EAFB5-5B78-4131-B0D0-15996C77F0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lankalkül Syntax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assignment statement to assign the expression A[4] + 1 to A[5]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 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        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|   A + 1 =&gt; A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  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V    |   4              5               (subscripts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   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   |   1.n           1.n             (data types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3BEAEE1-08BF-421D-A307-2969832BC38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Minimal Hardware Programming: Pseudocode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What was wrong with using machine code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oor readabilit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oor modifiabilit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xpression coding was tediou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achine deficiencies--no indexing or floating poi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B87D693-DD69-4333-AF63-82ABA318881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seudocodes: Short Code 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hort Code developed by Mauchly in 1949 for BINAC computers       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xpressions were coded, left to righ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xample of operations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01 –   06 abs value   1n (n+2)nd powe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02 )   07 +           2n (n+2)nd roo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03 =   08 pause       4n if &lt;= 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04 /   09 (           58 print and tab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12:29:19Z</dcterms:created>
  <dc:creator>David Garrett</dc:creator>
  <dc:description/>
  <dc:language>en-US</dc:language>
  <cp:lastModifiedBy>Binod</cp:lastModifiedBy>
  <dcterms:modified xsi:type="dcterms:W3CDTF">2016-02-03T13:02:39Z</dcterms:modified>
  <cp:revision>53</cp:revision>
  <dc:subject/>
  <dc:title>Chapter 1</dc:title>
</cp:coreProperties>
</file>