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9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00DF-8AA6-4ADB-A9DB-612303D38D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7A28D-1296-47F8-AA99-61696451A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F6361-DB11-49E9-87AE-B6B65F359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357D2-81DD-4990-94CC-219E206837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9DAE9-903B-4252-BF89-18BB8249B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89D4-AAE6-49A0-83D1-8EA53A3F0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36CCF-FC27-42EA-BAFC-69B4984C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AF0B-7F0C-4E8B-9374-D0CEE0EA0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0B68-FDF0-4916-83F5-4A850C9AD9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CB94A-8208-450E-99B0-15369F825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4FEF-6833-45D2-B13D-AE4F99927A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E58A-A0C1-4F56-8B0F-34B1377DC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A1B7-A47B-467E-B888-341CAC9A0E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D434-BD29-42A4-9374-E5C5BBC809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FD44-46DD-479C-B708-A24B1E541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6D4F-5D1F-4ED6-9A8B-E58643608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385E-3DC6-48E2-A8FF-39C6A4B35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60E3-DD12-4C7D-B1C9-7FD50D490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1715-BBF7-4E82-AE84-0952693CA8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DE82-4218-44C1-8E61-79E4319C0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F5258-8D10-4D17-AD9E-B89C3CBC7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9030-287A-44B1-9D9A-08FB63638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FB21-BC9B-4C82-AB5A-8FCA75192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BD67-9160-4FB0-B5C7-4545EA7EE4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BE32-BA84-422B-8BA8-3EADFF895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2EDA-599A-40A3-8241-510042679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BA7-B6C5-4EA7-8303-B3FC33F13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9614D-627B-475D-AFBC-EA0E9B0F0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62A35-784B-4572-9F02-A728F8117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F4AFF-91E6-4F67-9727-88410DA14E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6F0B-2FBC-4854-A280-0BBD7A652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452B-AEA7-45A6-BFFF-4B72EF1AE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AA22-7149-4F6B-8335-DB5527D59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CBC80-580F-4CF2-8F17-4DA62AF0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B256-FD1E-427D-9953-8290A4822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324B-3F62-4100-B9AD-F5A955A52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8F55-473B-44F5-80A7-C330F0EB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E9E32-F71E-40A0-8A37-0E2EF8ED6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BD89-184A-40A0-972D-F894EF6D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27D4A-D8AE-4CF9-B865-D0A69F17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69E4-F1D8-4A75-84AC-3EF9FD035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3F53-A0D0-48BF-AF86-7887EAFC7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29BF-005F-4CC0-BE99-C33062FC3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557E-FA66-4CFD-8BC4-093E51E2C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902C9-2FCD-4265-8D86-C3A5971FC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ECDE-76E7-49A2-BF2E-107A89994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D62CA-B5EB-4D57-8291-3DD333684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4C079-14BE-4EB8-A6B0-2BC9552B9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38F29-632B-49D0-98B9-B6C4A5269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E6EB8-1865-4309-A1EF-DB0198C23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4822D-2E4E-45C3-AB2E-A08EB4DEF3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C134-7C16-403F-A714-2CBF58DC2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9D3F7-280F-4744-A88C-2FA38AFBA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6FE4F-706E-4687-88EA-35EE158E5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A3F43-5F80-4791-8792-32E9FD13A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0099-0953-4E00-ADF3-D03C46016B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B9B5D-07C8-4AE6-8572-097F57EB4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7C63F-64B9-44B7-BD39-6400C44F9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0A722-ECB6-4082-97CF-171B334146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4639-0998-41B3-A689-9B9E10470C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FC29-0D0D-4000-A259-E64CF0047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829C-983D-4393-909F-DB9CDE167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D2A8-4BFD-4547-8144-45A5D2F8C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B68F-A7E1-4389-AFBF-7FA41DA310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176BD-2062-4994-B481-E410146A8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E567-7830-4CDB-8E4C-CE35BB4B2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8B66D-F261-4F55-809F-8153B5BB14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00EE-D08E-4CBE-B7DF-1D547DDD51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23036-1166-47F0-9F35-33CDD36033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0AFA-9376-4A3C-B948-5F52371A14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4395-222E-40FE-9737-53F083A397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C2946-E2C8-4756-83D1-6EA9208A6C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EE0B18-DE0D-43FF-A373-EEA74EFB22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26455-9186-4515-BC98-E691C9B019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843DFC-A8C5-4073-A98E-F537A11A4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4D257-9923-4FE8-AD05-6FAEEBDEF6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F2068-F8B2-4A16-AF2E-9104230F6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9EE7-256F-4BF7-8ACD-F943EC7B24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E84E458-512E-4254-BD07-19CA50B05A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6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Data Typ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D2BD5A0-CB6A-4079-808B-330F38207D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itive Data Types: Character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ored as numeric coding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st commonly used coding: ASCII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alternative, 16-bit coding: Unicode (UCS-2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cludes characters from most natural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riginally used in Java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# and JavaScript also support Unicod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32-bit Unicode (UCS-4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pported by Fortran, starting with 2003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D887B9-0D8D-4B03-90B1-AABAFB1AAC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racter String Types 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alues are sequences of charac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su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s it a primitive type or just a special kind of array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hould the length of strings be static or dynamic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17EE671-B5AB-4F36-A4C5-A3FBBE74F0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racter String Types Opera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ypical operation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ssignment and copy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arison (=, &gt;, etc.)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ten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bstring referenc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ttern match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20E57FF-2DF2-4792-924B-2E34FE71F92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haracter String Type in Certain Languag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 and C++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Not primitiv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Use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char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arrays and a library of functions that provide operation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NOBOL4 (a string manipulation language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rimitiv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Many operations, including elaborate pattern matching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ortran and Pyth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rimitive type with assignment and several operation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Java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rimitive via th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String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clas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erl, JavaScript, Ruby, and PHP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rovide built-in pattern matching, using regular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        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expression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22601C6-B061-4672-9388-3839C77B6C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racter String Length Op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atic: COBOL, Java’s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Str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Limited Dynamic Lengt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C and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these languages, a special character is used to indicate the end of a string’s characters, rather than maintaining the length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ynam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no maximum): SNOBOL4, Perl, JavaScrip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EFFE199-37B2-4029-A863-57D273DE7EA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racter String Type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id to writabil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s a primitive type with static length, they are inexpensive to provide--why not have them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ynamic length is nice, but is it worth the expense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632717E-CB29-4BB3-B86B-B6639EDC14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racter String Implement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atic length: compile-time descripto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mited dynamic length: may need a run-time descriptor for length (but not in C and C++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ynamic length: need run-time descriptor; allocation/deallocation is the biggest implementation proble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FA8B567-F190-4A73-AA75-F0EFA135EA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mpile- and Run-Time Descriptor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905120" y="3048120"/>
            <a:ext cx="2070000" cy="115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5105520" y="2895480"/>
            <a:ext cx="2292120" cy="15084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1752480" y="4419720"/>
            <a:ext cx="2819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ile-time descriptor for static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4952880" y="4495680"/>
            <a:ext cx="31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un-time descriptor for limited dynamic st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E1EAEC3-B221-4591-94C9-018A0ADEF5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ser-Defined Ordinal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ordinal type is one in which the range of possible values can be easily associated with the set of positive integ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s of primitive ordinal types in Ja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eg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cha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boolea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1BCBBCA-5BE9-493F-A85C-202C058E8F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numeration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possible values, which are named constants, are provided in the defini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# examp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num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days {mon, tue, wed, thu, fri, sat, sun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su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s an enumeration constant allowed to appear in more than one type definition, and if so, how is the type of an occurrence of that constant checke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enumeration values coerced to integer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y other type coerced to an enumeration type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A399208-FD11-419E-B2C9-4A6F3FCA23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6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trodu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imitive Data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haracter String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numeration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rray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ssociative Array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cord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uple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ist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Union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ointer and Reference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ype Checking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trong Typing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ype Equivalen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ory and Data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72469B5-A7ED-4AEA-96D1-BACE4A473D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of Enumerated Typ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id to readability, e.g., no need to code a color as a numb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id to reliability, e.g., compiler can check: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perations (don’t allow colors to be added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enumeration variable can be assigned a value outside its defined ran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# and Java 5.0 provide better support for enumeration than C++ because enumeration type variables in these languages are not coerced into integer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8E740BF-D25F-4F75-8F1A-632DC0ED27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ray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array is a homogeneous aggregate of data elements in which an individual element is identified by its position in the aggregate, relative to the first element.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5D886EF-21A3-4611-B9E9-C2138FF94F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ray Design Issu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at types are legal for subscripts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subscripting expressions in element references range checke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are subscript ranges boun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does allocation take place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ragged or rectangular multidimensional arrays allowed, or both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at is the maximum number of subscripts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array objects be initialize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any kind of slices supporte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6C07205-35EE-4100-B6B7-D8DD5D3411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ray Index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Index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or subscripting) is a mapping from indices to el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array_name (index_value_list)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an eleme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dex Syntax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tran and Ada use parenthe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Ada explicitly uses parentheses to show uniformity between array references and function calls because both are </a:t>
            </a:r>
            <a:r>
              <a:rPr b="0" i="1" lang="en-US" sz="2100" spc="-1" strike="noStrike">
                <a:solidFill>
                  <a:srgbClr val="666699"/>
                </a:solidFill>
                <a:latin typeface="Lucida Sans Unicode"/>
              </a:rPr>
              <a:t>mapping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ost other languages use bracke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3A8582D-FC99-477F-AB18-85364509C9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rays Index (Subscript)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TRAN, C: integer onl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ava: integer types onl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dex range check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C, C++, Perl, and Fortran do not specif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ange check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Java, ML, C# specify range check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8861243-69B6-49F6-B6DD-ABB07057BC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ubscript Binding and Array Categori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tatic</a:t>
            </a:r>
            <a:r>
              <a:rPr b="0" lang="en-US" sz="2800" spc="-1" strike="noStrike">
                <a:solidFill>
                  <a:srgbClr val="bbe0e3"/>
                </a:solidFill>
                <a:latin typeface="Lucida Sans Unicode"/>
              </a:rPr>
              <a:t>: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subscript ranges are statically bound and storage allocation is static (before run-tim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vantage: efficiency (no dynamic allocation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Fixed stack-dynam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subscript ranges are statically bound, but the allocation is done at declaration tim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vantage: space efficiency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56EA377-26C2-4E95-B794-AA49B736CC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ubscript Binding and Array Categories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Fixed heap-dynam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similar to fixed stack-dynamic: storage binding is dynamic but fixed after allocation (i.e., binding is done when requested and storage is allocated from heap, not stack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8DDED95-C521-4F6C-A268-7FFA0F5FCB9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ubscript Binding and Array Categories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eap-dynamic: binding of subscript ranges and storage allocation is dynamic and can change any number of tim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vantage: flexibility (arrays can grow or shrink during program execution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E6D8DBE-3CE3-4356-8C34-BCFB931A9A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ubscript Binding and Array Categories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3822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 and C++ arrays that includ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t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odifier are stat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 and C++ arrays withou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t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odifier are fixed stack-dynam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 and C++ provide fixed heap-dynamic array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# includes a second array clas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hat provides fixed heap-dynam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erl, JavaScript, Python, and Ruby support heap-dynamic array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29E861B-C0CA-470A-860B-429B010488A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ray Initializ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me language allow initialization at the time of storage alloc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, C++, Java, C# examp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list [] = {4, 5, 7, 83}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haracter strings in C and C++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a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name [] = ″freddie″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rays of strings in C and C++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a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*names [] = {″Bob″, ″Jake″, ″Joe″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ava initialization of String objec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ring[] names = {″Bob″, ″Jake″, ″Joe″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2DE7967-3548-415C-A4DC-6B5240586F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ata typ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defines a collection of data objects and a set of predefined operations on those objec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escript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the collection of the attributes of a variab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objec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represents an instance of a user-defined (abstract data) typ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ne design issue for all data types: What operations are defined and how are they specified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94D600B-4B31-4788-97CB-C8AF6614DC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eterogeneous Array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heterogeneous arra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one in which the elements need not be of the same typ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pported by Perl, Python, JavaScript, and Rub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ray Initializ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-based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list [] = {1, 3, 5, 7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a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*names [] = {″Mike″, ″Fred″, ″Mary Lou″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Pyth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 comprehens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 = [x ** 2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 rang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12)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% 3 == 0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put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0, 9, 36, 81]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i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BC602AC-B9FA-4E6B-83A8-5DAB6286B5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4FC0801-971C-4970-B6E7-A25A7843FA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rrays Opera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PL provides the most powerful array processing operations for vectors and matrixes as well as unary operators (for example, to reverse column element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ython’s array assignments, but they are only reference changes. Python also supports array catenation and element membership oper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uby also provides array caten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E424F52-BBA1-474E-9345-B3B8C54228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ctangular and Jagged Array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rectangular array is a multi-dimensioned array in which all of the rows have the same number of elements and all columns have the same number of el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jagged matrix has rows with varying number of el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ssible when multi-dimensioned arrays actually appear as arrays of array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, C++, and Java support jagged array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# and C# support rectangular arrays and jagged array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909FFE0-1F76-45E5-AD14-2D668685E5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lic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slice is some substructure of an array; nothing more than a referencing mechanis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lices are only useful in languages that have array operations   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71C6898-B83A-455C-99B9-C654ECBC76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lice Exampl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yth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ector = [2, 4, 6, 8, 10, 12, 14, 16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t = [[1, 2, 3], [4, 5, 6], [7, 8, 9]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ector (3:6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s a three-element arra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t[0][0:2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the first and second element of the first row o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uby supports slices with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lic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etho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.slice(2, 2)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turns the third and fourth elements o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3D33791-241E-4A64-9F73-4B094D6C16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ation of Array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3822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ccess function maps subscript expressions to an address in the array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ccess function for single-dimensioned array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dress(list[k]) = address (list[lower_bound]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+ ((k-lower_bound) * element_siz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34" name="Picture 5" descr="fig_06_05.jpg"/>
          <p:cNvPicPr/>
          <p:nvPr/>
        </p:nvPicPr>
        <p:blipFill>
          <a:blip r:embed="rId1"/>
          <a:stretch/>
        </p:blipFill>
        <p:spPr>
          <a:xfrm>
            <a:off x="3276720" y="4343400"/>
            <a:ext cx="198108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0F16E5E-C9B2-4BE7-A7B0-BB0EE815DE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ccessing Multi-dimensioned Array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common way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ow major order (by rows) – used in most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lumn major order (by columns) – used in Fortra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ompile-time descript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 a multidimension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ra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39" name="Picture 5" descr="fig_06_06.jpg"/>
          <p:cNvPicPr/>
          <p:nvPr/>
        </p:nvPicPr>
        <p:blipFill>
          <a:blip r:embed="rId1"/>
          <a:stretch/>
        </p:blipFill>
        <p:spPr>
          <a:xfrm>
            <a:off x="5638680" y="3581280"/>
            <a:ext cx="27432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1F7F972-6A6D-4751-9695-C148B6189B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Locating an Element in a Multi-dimensioned Array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2590920" y="2666880"/>
            <a:ext cx="3581280" cy="345132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5"/>
          <p:cNvSpPr/>
          <p:nvPr/>
        </p:nvSpPr>
        <p:spPr>
          <a:xfrm>
            <a:off x="685800" y="1447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533520" y="1371600"/>
            <a:ext cx="786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Gener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Location (a[I,j]) = address of a [row_lb,col_lb] + (((I - row_lb) * n) + (j - col_lb)) * element_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195092-7246-480B-9679-56D77E82DC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pile-Time Descripto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49" name="Picture 3" descr=""/>
          <p:cNvPicPr/>
          <p:nvPr/>
        </p:nvPicPr>
        <p:blipFill>
          <a:blip r:embed="rId1"/>
          <a:stretch/>
        </p:blipFill>
        <p:spPr>
          <a:xfrm>
            <a:off x="1523880" y="1752480"/>
            <a:ext cx="1917720" cy="289584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4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3160800" cy="32004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5"/>
          <p:cNvSpPr/>
          <p:nvPr/>
        </p:nvSpPr>
        <p:spPr>
          <a:xfrm>
            <a:off x="759240" y="4876920"/>
            <a:ext cx="38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ingle-dimensioned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5150880" y="4908600"/>
            <a:ext cx="35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ultidimensional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26A67DC-6444-498E-ACB4-BEDCFB356CF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itive Data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most all programming languages provide a set of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primitive data typ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imitive data types: Those not defined in terms of other data typ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me primitive data types are merely reflections of the hardwa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thers require only a little non-hardware support for their implement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6AF7075-5200-4317-A2AF-AE713D6F52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ssociative Array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ssociative arra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n unordered collection of data elements that are indexed by an equal number of values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keys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r-defined keys must be stor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sues: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at is the form of references to elements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Is the size static or dynamic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uilt-in type in Perl, Python, Ruby, and Lu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Lua, they are supported by t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0028574-A110-4961-BA3C-FAE2CE2084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ssociative Arrays in Per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ames begin with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%; 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terals are delimited by parenthe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%hi_temps = ("Mon" =&gt; 77, "Tue" =&gt; 79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"Wed"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=&gt; 65, …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bscripting is done using braces and key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$hi_temps{"Wed"} = 83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lements can be removed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elet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elet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$hi_temps{"Tue"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85DD313-0A1F-423D-9C04-912EE67995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cord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ecor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possibly heterogeneous aggregate of data elements in which the individual elements are identified by nam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su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at is the syntactic form of references to the field?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elliptical references allow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6726C57-9800-4D32-8B7B-F865893A2E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finition of Records in COBO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BOL uses level numbers to show nested records; others use recursive defini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01 EMP-REC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02 EMP-NAME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05 FIRST PIC X(20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05 MID   PIC X(10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05 LAST  PIC X(20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02 HOURLY-RATE PIC 99V99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564BA48-23BC-4150-AA47-D87304F9FE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ferences to Record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ecord field referenc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1. COBOL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field_name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record_name_1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...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OF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record_name_n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2. Others (dot notation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record_name_1.record_name_2. ... record_name_n.field_nam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ully qualified reference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must include all record nam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Elliptical reference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allow leaving out record names as long as the reference is unambiguous, for example in COBO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IRST, FIRST OF EMP-NAM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IRST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of EMP-REC are elliptical references to the employee’s first nam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DF35738-6F40-493E-A553-527E1C0903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and Comparison to Array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cords are used when collection of data values is heterogeneou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ccess to array elements is much slower than access to record fields, because subscripts are dynamic (field names are static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ynamic subscripts could be used with record field access, but it would disallow type checking and it would be much slow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31FA256-562B-4A60-ACF1-281C4EE0E39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ation of Record Typ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5257800" y="1676520"/>
            <a:ext cx="2952720" cy="441324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5"/>
          <p:cNvSpPr/>
          <p:nvPr/>
        </p:nvSpPr>
        <p:spPr>
          <a:xfrm>
            <a:off x="457200" y="28195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ffset address relative to the beginning of the records is associated with each f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uple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uple is a data type that is similar to a record, except that the elements are not nam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d in Python, ML, and F# to allow functions to return multiple valu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yth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08440" indent="-2214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Closely related to its lists, but immutable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08440" indent="-2214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Create with a tuple literal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myTuple = (3, 5.8, ′apple′)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08440" indent="-22140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   </a:t>
            </a: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Referenced with subscripts (begin at 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1</a:t>
            </a: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)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08440" indent="-221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Catenation with 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+</a:t>
            </a: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 and deleted with </a:t>
            </a:r>
            <a:r>
              <a:rPr b="1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del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0FA81BB-2C51-4FAE-B01D-76923F35E53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uple Typ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609120" y="13716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myTuple = (3, 5.8, ′apple′)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Access as follow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#1(myTuple)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the first ele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A new tuple type can be defin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typ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intReal =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*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eal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#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tup = (3, 5, 7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 a, b, c = tup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This assigns a tuple to a tuple pattern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(a, b, c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8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0E3AA49-A889-45CB-8573-3826EE6125E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sts in Lisp and Scheme are delimited by parentheses and use no comma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B C D)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(B C) 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ata and code have the same for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s data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B C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s literally what it i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s code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B C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s the functio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pplied to the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rameter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d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The interpreter needs to know which a list is, so if it is data, we quote it with an apostroph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′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B C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is data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7A900BF-0EDC-4971-B7E7-FA02C9FDD6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7D5E12E-4554-48F3-A526-53E0520596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itive Data Types: Integer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most always an exact reflection of the hardware so the mapping is trivia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re may be as many as eight different integer types in a language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’s signed integer sizes: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byte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short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,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lo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Typ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List Operations in Schem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the first element of its list paramet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AR ′(A B C)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D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the remainder of its list parameter after the first element has been remov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DR ′(A B C))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B C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puts its first parameter into its second parameter, a list, to make a new lis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ONS ′A (B C))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B C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a new list of its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LIST ′A ′B ′(C D)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B (C D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3F9FFD5-3E52-45DF-8C37-69DBBA8371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Typ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60912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st Operations in M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sts are written in brackets and the elements are separated by comma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st elements must be of the same ty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Schem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unction is a binary operator in ML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: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3 :: [5, 7, 9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evaluates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3, 5, 7, 9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Schem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D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unctions are name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h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respectivel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5893109-2645-48C1-BC30-288946B681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Typ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33520" y="129492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# Lists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ke those of ML, except elements are separated by semicolons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h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re methods of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ython Lis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list data type also serves as Python’s array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nlike Scheme, Common Lisp, ML, and F#, Python’s lists are muta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lements can be of any ty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reate a list with an assign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yList = [3, 5.8, "grap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"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0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A8019C9-8F5B-4138-A2FE-E47A32A70D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Typ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ython Lists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st elements are referenced with subscripting, with indices beginning at zero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 = myList[1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Set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5.8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st elements can be deleted with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l myList[1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st Comprehensions – derived from set not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x * x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 rang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6)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% 3 == 0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ang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12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reate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0, 1, 2, 3, 4, 5, 6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structed list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0, 9, 36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0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1002825-8BEC-449B-AFA5-075DD82297B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Typ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askell’s List Comprehen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origin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n * n | n &lt;- [1..10]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#’s List Comprehens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myArray = [|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o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i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1 .. 5 -&gt; [i * i) |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Both C# and Java supports lists through their generic heap-dynamic collection classes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rrayLis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, respectivel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1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426B5B3-1F63-4DDC-BCD1-4F91F3FF84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E9F5B3C-80BE-438E-8611-60801DEB22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nions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un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type whose variables are allowed to store different type values at different times during execu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sue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hould type checking be required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25BB8C1-ADC5-4D97-861E-A51F0F6472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iscriminated vs. Free Un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 and C++ provide union constructs in which there is no language support for type checking; the union in these languages is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free un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ype checking of unions require that each union include a type indicator called 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iscrimina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pported by ML, Haskell, and F#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nions in F#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fined with a type statement using O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yp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intReal =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 IntValue of i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 RealValue of float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Re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the new typ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Valu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alValu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re construct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o create a value of typ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Re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ir1 = IntValue 17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ir2 = RealValue 3.4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08520" indent="-30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B9FB355-CB21-44C7-BB56-6A7C8820066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nions in F#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39720" y="16002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ccessing the value of a union is done with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ttern match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tc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patter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with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expression_list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Lucida Sans Unicode"/>
              </a:rPr>
              <a:t>1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&gt;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expression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Lucida Sans Unicode"/>
              </a:rPr>
              <a:t>1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…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expression_list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Lucida Sans Unicode"/>
              </a:rPr>
              <a:t>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&gt;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expression</a:t>
            </a:r>
            <a:r>
              <a:rPr b="0" lang="en-US" sz="2800" spc="-1" strike="noStrike" baseline="-25000">
                <a:solidFill>
                  <a:srgbClr val="333399"/>
                </a:solidFill>
                <a:latin typeface="Lucida Sans Unicode"/>
              </a:rPr>
              <a:t>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Pattern can be any data typ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The expression list can have wild cards (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_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E6734F3-EBF7-4378-A275-84DA6195C73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nions in F#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Example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a = 7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b = ″grape″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tch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(a, b)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with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 4, ″apple″ -&gt; appl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 _, ″grape″ -&gt; grap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 _ -&gt; fruit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084C939-B319-4354-A51A-3596D197C28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8E4BF41-A73D-4AC4-A552-25527D2B6E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itive Data Types: Floating Poin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del real numbers, but only as approxima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nguages for scientific use support at least two floating-point types (e.g.,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doubl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; sometimes mo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ually exactly like the hardware, but not alway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EEE Floating-Poi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andard 754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5029200" y="4572000"/>
            <a:ext cx="32767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nions in F#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To display the type of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Re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union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printType value =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tch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valu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with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 IntVale value -&gt; printfn ″int″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 RealValue value -&gt; printfn ″float″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I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r1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r2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are defined as previously,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Type ir1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rintType ir2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B49031C-4918-46B6-AE1B-385165FA920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0BB8504-944C-4713-B9CC-43639639A8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of Un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ree unions are unsaf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o not allow type check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 and C# do not support un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flective of growing concerns for safety in programming langu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D7A89F7-461A-44C3-AA54-46AA0A10D8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ointer and Reference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pointe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ype variable has a range of values that consists of memory addresses and a special value,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nil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vide the power of indirect address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vide a way to manage dynamic memor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pointer can be used to access a location in the area where storage is dynamically created (usually called 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heap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179104E-21FE-4EB0-AE93-D02BE84D76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sign Issues of Point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at are the scope of and lifetime of a pointer variable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at is the lifetime of a heap-dynamic variable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re pointers restricted as to the type of value to which they can point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re pointers used for dynamic storage management, indirect addressing, or both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hould the language support pointer types, reference types, or both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683EB7C-654E-443B-94D2-EB37561ABD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ointer Opera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fundamental operations: assignment and dereferenc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ssignment is used to set a pointer variable’s value to some useful addre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referencing yields the value stored at the location represented by the pointer’s val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referencing can be explicit or implic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++ uses an explicit operation via *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j = *pt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ts j to the value located at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pt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AD0DC02-D47F-4BEB-87E3-29D6E17FEA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ointer Assignment Illustrated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5319720"/>
            <a:ext cx="8153640" cy="8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assignment operation j = *pt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358" name="Picture 4" descr=""/>
          <p:cNvPicPr/>
          <p:nvPr/>
        </p:nvPicPr>
        <p:blipFill>
          <a:blip r:embed="rId1"/>
          <a:stretch/>
        </p:blipFill>
        <p:spPr>
          <a:xfrm>
            <a:off x="1828800" y="1676520"/>
            <a:ext cx="586728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39666B7-6B4B-49B5-B432-C5EDA8550D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blems with Pointers 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angling pointers (dangerou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pointer points to a heap-dynamic variable that has been deallocat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st heap-dynamic varia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n allocated heap-dynamic variable that is no longer accessible to the user program (often called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garbag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Pointer </a:t>
            </a:r>
            <a:r>
              <a:rPr b="0" lang="en-US" sz="1900" spc="-1" strike="noStrike">
                <a:solidFill>
                  <a:srgbClr val="666699"/>
                </a:solidFill>
                <a:latin typeface="Courier New"/>
                <a:ea typeface="Courier New"/>
              </a:rPr>
              <a:t>p1</a:t>
            </a: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 is set to point to a newly created heap-dynamic variable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Pointer </a:t>
            </a:r>
            <a:r>
              <a:rPr b="0" lang="en-US" sz="1900" spc="-1" strike="noStrike">
                <a:solidFill>
                  <a:srgbClr val="666699"/>
                </a:solidFill>
                <a:latin typeface="Courier New"/>
                <a:ea typeface="Courier New"/>
              </a:rPr>
              <a:t>p1</a:t>
            </a: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 is later set to point to another newly created heap-dynamic variable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The process of losing heap-dynamic variables is called </a:t>
            </a:r>
            <a:r>
              <a:rPr b="0" i="1" lang="en-US" sz="1900" spc="-1" strike="noStrike">
                <a:solidFill>
                  <a:srgbClr val="666699"/>
                </a:solidFill>
                <a:latin typeface="Lucida Sans Unicode"/>
              </a:rPr>
              <a:t>memory leakage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88B2C2E-0025-4D75-AD4E-D644567CD2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ointers in C and C++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tremely flexible but must be used with ca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inters can point at any variable regardless of when or where it was alloca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d for dynamic storage management and address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inter arithmetic is possi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plicit dereferencing and address-of operat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omain type need not be fixed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*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*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can point to any type and can be typ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hecked (cannot be de-reference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F973450-CA3D-4458-A2F0-0B2A9BB35C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ointer Arithmetic in C and C++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stuff[100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*p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 = stuff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*(p+5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s equivalent to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tuff[5]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[5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*(p+i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s equivalent to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tuff[i]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[i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58DFEE7-67EA-4157-81A4-45AA0E98C47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Reference Types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++ includes a special kind of pointer type called 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eference typ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hat is used primarily for formal parame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vantages of both pass-by-reference and pass-by-value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 extends C++’s reference variables and allows them to replace pointers entirel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ferences are references to objects, rather than being addres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# includes both the references of Java and the pointers of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F02B2D1-8522-4837-B294-8D0943FF77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itive Data Types: Complex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Some languages support a complex type, e.g., C99, Fortran, and Pyth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Each value consists of two floats, the real part and the imaginary par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Literal form (in Python)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s-MX" sz="2000" spc="-1" strike="noStrike">
                <a:solidFill>
                  <a:srgbClr val="333399"/>
                </a:solidFill>
                <a:latin typeface="Courier New"/>
              </a:rPr>
              <a:t>(7 + 3j)</a:t>
            </a: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, where </a:t>
            </a:r>
            <a:r>
              <a:rPr b="0" lang="es-MX" sz="2000" spc="-1" strike="noStrike">
                <a:solidFill>
                  <a:srgbClr val="333399"/>
                </a:solidFill>
                <a:latin typeface="Courier New"/>
              </a:rPr>
              <a:t>7</a:t>
            </a: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 is the real part and </a:t>
            </a:r>
            <a:r>
              <a:rPr b="0" lang="es-MX" sz="2400" spc="-1" strike="noStrike">
                <a:solidFill>
                  <a:srgbClr val="333399"/>
                </a:solidFill>
                <a:latin typeface="Courier New"/>
              </a:rPr>
              <a:t>3</a:t>
            </a: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 is the imaginary par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A300BA4-767C-4337-B5DA-719E53CFE8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of Point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angling pointers and dangling objects are problems as is heap manage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inters are like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goto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's--they widen the range of cells that can be accessed by a variab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inters or references are necessary for dynamic data structures--so we can't design a language without the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E2A49DD-63C9-4881-8FF3-3F16D1AF4D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presentations of Point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rge computers use single valu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tel microprocessors use segment and offse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69ABB40-5A65-4065-AAA8-C701D36DC6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angling Pointer Problem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Tombston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extra heap cell that is a pointer to the heap-dynamic varia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actual pointer variable points only at tombston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hen heap-dynamic variable de-allocated, tombstone remains but set to ni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ostly in time and spa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.</a:t>
            </a:r>
            <a:r>
              <a:rPr b="0" lang="en-US" sz="2400" spc="-1" strike="noStrike">
                <a:solidFill>
                  <a:srgbClr val="bbe0e3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Locks-and-key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Pointer values are represented as (key, address) pai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Heap-dynamic variables are represented as variable plus cell for integer lock val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hen heap-dynamic variable allocated, lock value is created and placed in lock cell and key cell of pointer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1B5A494-735C-464A-BAF9-387773679A7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eap Managemen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very complex run-time proce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ngle-size cells vs. variable-size cel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wo approaches to reclaim garb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ference counter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(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ager approach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: reclamation is gradu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ark-sweep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(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lazy approach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: reclamation occurs when the list of variable space becomes empt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AC0E153-11F4-446E-8B4F-C6365BFE9F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ference Counter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ference counters: maintain a counter in every cell that store the number of pointers currently pointing at the cel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Disadvantag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space required, execution time required, complications for cells connected circularl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Advantag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it is intrinsically incremental, so significant delays in the application execution are avoid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20194C0-2507-4E6C-BFC2-B9F5976273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ark-Sweep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run-time system allocates storage cells as requested and disconnects pointers from cells as necessary; mark-sweep then begi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very heap cell has an extra bit used by collection algorithm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ll cells initially set to garbag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ll pointers traced into heap, and reachable cells marked as not garbag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ll garbage cells returned to list of available cell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isadvantages: in its original form, it was done too infrequently. When done, it caused significant delays in application execution. Contemporary mark-sweep algorithms avoid this by doing it more often—called incremental mark-sweep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5936547-2F6F-49F9-B6AC-7AD55754B32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arking Algorithm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55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1B910E1-C3BB-4E62-AE4C-455AFE91C2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Variable-Size Cell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the difficulties of single-size cells plus mo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quired by most programming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mark-sweep is used, additional problems occu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initial setting of the indicators of all cells in the heap is difficul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marking process in nontrivi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intaining the list of available space is another source of overhea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ype Check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Generalize the concept of operands and operators to include subprograms and assignmen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Type checking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the activity of ensuring that the operands of an operator are of compatible 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compatible typ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one that is either legal for the operator, or is allowed under language rules to be implicitly converted, by compiler- generated code, to a legal typ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Lucida Sans Unicode"/>
              </a:rPr>
              <a:t>This automatic conversion is called a </a:t>
            </a:r>
            <a:r>
              <a:rPr b="0" i="1" lang="en-US" sz="1800" spc="-1" strike="noStrike">
                <a:solidFill>
                  <a:srgbClr val="666699"/>
                </a:solidFill>
                <a:latin typeface="Lucida Sans Unicode"/>
              </a:rPr>
              <a:t>coercion</a:t>
            </a:r>
            <a:r>
              <a:rPr b="0" lang="en-US" sz="1800" spc="-1" strike="noStrike">
                <a:solidFill>
                  <a:srgbClr val="666699"/>
                </a:solidFill>
                <a:latin typeface="Lucida Sans Unicode"/>
              </a:rPr>
              <a:t>.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type error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the application of an operator to an operand of an inappropriate typ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5DDBFAA-BE9C-4E5F-9558-34B2FC5EA2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ype Checking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all type bindings are static, nearly all type checking can be stat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type bindings are dynamic, type checking must be dynam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programming language is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trongly type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type errors are always detec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vantage of strong typ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llows the detection of the misuses of variables that result in type err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1560085-2907-419B-8294-F22E1DAA5B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98735ED-6920-42FA-AFEB-4149E24384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itive Data Types: Decima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 business applications (money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ssential to COBO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# offers a decimal data ty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ore a fixed number of decimal digits, in coded form (BCD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dvantag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ccurac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isadvantage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limited range, wastes memor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rong Typ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nguage exampl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C and C++ are not: parameter type checking can be avoided; unions are not type check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Java and C# are, almost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because of explicit type casting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- ML and F# a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681DB1C-6F59-4266-A4A5-169C65A38B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rong Typing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ercion rules strongly affect strong typing--they can weaken it considerably (C++ versus ML and F#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though Java has just half the assignment coercions of C++, its strong typing is still far less effective than that of Ad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2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D14E815-05E4-46C5-A28B-1FFF13592A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e Type Equivalenc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Name type equivalenc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eans the two  variables have equivalent types if they are in either the same declaration or in declarations that use the same type nam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asy to implement but highly restrictive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Subranges of integer types are not equivalent with integer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Formal parameters must be the same type as their corresponding actual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2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9E60812-7719-4C76-BDC0-49FC0D551B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ructure Type Equivalenc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tructure type equivalence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eans that two variables have equivalent types if their types have identical structur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re flexible, but harder to imple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2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76715A4-6E72-405B-BAF8-6D4B0676E2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ype Equivalence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sider the problem of two structured type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two record types equivalent if they are structurally the same but use different field names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two array types equivalent if they are the same except that the subscripts are different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e.g.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1..10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0..9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two enumeration types equivalent if their components are spelled differently?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ith structural type equivalence, you cannot differentiate between types of the same structure      (e.g. different units of speed, both float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3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7135686-E9AC-4945-9F48-9AED6A9F65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ory and Data Typ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ype theory is a broad area of study in mathematics, logic, computer science, and philosoph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branches of type theory in computer science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actical – data types in commercial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bstract – typed lambda calculu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ype system is a set of types and the rules that govern their use in 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3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AFC9A76-CA09-4511-AFC3-A4A8695912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ory and Data Typ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mal model of a type system is a set of types and a collection of functions that define the type rul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ither an attribute grammar or a type map could be used for the func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nite mappings – model arrays and func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rtesian products – model tuples and recor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t unions – model union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bsets – model sub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4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DD206E9-AA57-414C-8007-CF1FA78336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009B330-CB1E-4FAA-8187-445F4A15CD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data types of a language are a large part of what determines that language’s style and usefulne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primitive data types of most imperative languages include numeric, character, and Boolean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user-defined enumeration and subrange types are convenient and add to the readability and reliability of 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rays and records are included in most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inters are used for addressing flexibility and to control dynamic storage manag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F92EDAA-31EC-4E88-A13D-5C03CCA031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itive Data Types: Boolea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mplest of al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ange of values: two elements, one for “true” and one for “false”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uld be implemented as bits, but often as byt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vantage: readabilit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3:12Z</dcterms:modified>
  <cp:revision>73</cp:revision>
  <dc:subject/>
  <dc:title>Chapter 1</dc:title>
</cp:coreProperties>
</file>