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E695-FC59-4E94-B6D9-F2682C3C1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913A-1F10-4A71-A3C1-6B177850D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61CA-C37F-4DD6-BEF0-B8CCB5A8C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5E20-0A0C-4C64-AD12-48747FB05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ABF89-B088-4E2A-9BC3-F4A43A40D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2ECD-3A13-468C-8331-6F177C550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75AC-6F12-471A-AE33-011B9C90D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EAC3-6CFD-4A75-A0A3-BA8C90216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7A400-721B-48AA-A284-B5B6095407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4B27-8677-41AE-94EE-01748E7C2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1FF76-BD6F-4C82-B670-57A29C1C2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0149-A2D1-4953-AB68-C1317C0754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CA6D-97DD-4BC0-937E-DA28095C0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D1883-98FC-4CC7-9F04-E7AD3D78C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1429F-78A4-44CB-93A4-A38A0EDCBA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F80B-957A-479C-95DA-13AA567F0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97B1-9FC2-47B6-B24D-BC0F4A7D4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38AB-F0E2-4CDE-8B4A-4FA45DC83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F79D-21AA-417D-AACC-86E5C0967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E511-6B76-4879-8AAA-4C271C0AC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A048A-862D-4BE6-BD1C-C105DBBC3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63400-32DC-4630-8199-B73B7B176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8C8C-1135-436F-A34E-C29B8BB26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494E-782B-427E-B362-32B34314E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D5546-06C5-4999-8749-B74E7280F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2A34-7DD4-46EB-92CF-EA4A7F45E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F6BC5-AB13-4179-B5C0-C9B03B9E5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F23E-770C-45CF-BA6F-3E085C705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E57A-8291-4F2F-9127-DC055702F7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F17B-3A3F-444B-874B-089FF6CA0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F492-960A-425C-8106-9C3517BC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ADE6-3847-4B8D-B94D-59879D48C6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DF35-89AC-4CA0-BDA0-9DDC5DD78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F5975-67AE-4D03-BF36-0896087EF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5EE10-BA2C-4466-B37A-0E87A0DE2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A013-2738-41F9-BEB9-2C0556CC7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8193-393E-4B0E-9545-C9CEC69D9D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FA29-C041-4480-B66F-4DA524878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8767-70A1-4F44-9B0F-69C7882FA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F9741-027F-40F1-824D-CDFFA7D18F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BF64-C00B-4845-8D15-B1DB7EDBD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8B5B7-D54F-47ED-8B94-694D633154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B7344-086C-4A73-BB72-4777DC18D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EC3B-83E2-4996-85D9-FFB8E63AC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3D9D7-4841-485C-BCB7-7434BDFE0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BD76D-1E74-4AF2-AE31-5AD20C7AB0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C9D65-869B-4857-BC58-7F4FA00AF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EC7E-DBA2-4CB8-867A-484229CB41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B419B-5744-44BD-B98F-D81B67AFF6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9C244-E1B9-49F5-8B28-81762551F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D23DB-8CE7-405F-9BA7-AAA7ED76A3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D90DA-2703-4E2F-A55E-ADB6D96FBD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7D88A0F-3082-4549-8C03-410468DDB5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9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Sub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8D2263B-B8E8-4EED-A5C6-6E51B9F7AC0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ocedures and Functions 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re are two categories of sub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Procedure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re collection of statements that define parameterized comput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Function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structurally resemble procedures but are semantically modeled on mathematical func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They are expected to produce no side effects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In practice, program functions have side effects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BDF09F0-9E25-4B16-9517-CBB028399D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sign Issues for Subprogra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Are local variables static or dynamic? 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Can subprogram definitions appear in other subprogram definitions? 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What parameter passing methods are provided?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Are parameter types checked?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If subprograms can be passed as parameters and subprograms can be nested, what is the referencing environment of a passed subprogram?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Are functional side effects allowed?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What types of values can be returned from functions?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How many values can be returned from functions?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Can subprograms be overloaded?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Can subprogram be generic?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If the language allows nested subprograms, are closures supported?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D28581A-77D0-4AC8-A494-D400A1D5AE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ocal Referencing Environme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cal variables can be stack-dynamic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Advantag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Support for recursion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Storage for locals is shared among some subprograms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isadvantag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Allocation/de-allocation, initialization time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Indirect addressing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Subprograms cannot be history sensitive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cal variables can be stat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dvantages and disadvantages are the opposite of those for stack-dynamic local variabl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Local Referencing Environments: Examples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most contemporary languages, locals are stack dynam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C-based languages, locals are by default stack dynamic, but can be declare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at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methods of C++, Java, Python, and C# only have stack dynamic loca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Lua, all implicitly declared variables are global; local variables are declared wit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oc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are stack dynam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572D0BB-F8D5-4E14-9818-4FA021F221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8A11E81-CAC0-40C5-93B3-70CC225D14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emantic Models of Parameter Passing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mod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ut mod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out mod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F0C2FCB-5D8C-4553-BEFE-8F999BF053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odels of Parameter Pass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353360" cy="45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4FDD06F-9A6C-4A74-B40C-418CF134BE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nceptual Models of Transfer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hysically move a val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ve an access path to a val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6E7AF7B-C63D-4C3C-AA3E-FBA29EC70F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ss-by-Value (In Mode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value of the actual parameter is used to initialize the corresponding formal paramet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Normally implemented by copying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an be implemented by transmitting an access path but not recommended (enforcing write protection is not easy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Disadvantage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(if by physical move): additional storage is required (stored twice) and the actual move can be costly (for large parameters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Disadvantage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(if by access path method): must write-protect in the called subprogram and accesses cost more (indirect addressing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C5257C9-5FDF-4C8E-BBEF-2FB3889933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ss-by-Result (Out Mode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en a parameter is passed by result, no value is transmitted to the subprogram; the corresponding formal parameter acts as a local variable; its value is transmitted to caller’s actual parameter when control is returned to the caller, by physical mov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quire extra storage location and copy oper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tential problem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ub(p1, p1);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ichever formal parameter is copied back will represent the current value of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1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ub(list[sub], sub);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Compute address of list[sub] at the beginning of the subprogram or en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0E7E11A-3C39-4F2A-83F2-1BB6C04024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ss-by-Value-Result (inout Mode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A combination of pass-by-value and pass-by-result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Sometimes called pass-by-copy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Formal parameters have local storage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Disadvantages: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ose of pass-by-resul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ose of pass-by-value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653A329-0782-450E-A9D3-718EC5271C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9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Introduction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Fundamentals of Subprogram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Design Issues for Subprogram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Local Referencing Environment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Parameter-Passing Method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Parameters That Are Subprogram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Calling Subprograms Indirectly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Design Issues for Function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Overloaded Subprogram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Generic Subprogram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User-Defined Overloaded Operator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Closure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Coroutine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8269D14-C0FC-4453-AEB7-5BB502B285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ss-by-Reference (Inout Mode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ss an access path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so called pass-by-shar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vantage: Passing process is efficient (no copying and no duplicated storag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isadvant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lower accesses (compared to pass-by-value) to formal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tentials for unwanted side effects (collision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nwanted aliases (access broaden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fun(total, total);  fun(list[i], list[j];  fun(list[i], i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6901F76-BD1B-4A74-95A7-17B69AFEED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ss-by-Name (Inout Mode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y textual substitu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mals are bound to an access method at the time of the call, but actual binding to a value or address takes place at the time of a reference or assign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ows flexibility in late bind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mplementation requires that the referencing environment of the caller is passed with the parameter, so the actual parameter address can be calculat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83880BC-3A10-42AF-95D0-B0718FB044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Implementing Parameter-Passing Methods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most languages parameter communication takes place thru the run-time stack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ss-by-reference are the simplest to implement; only an address is placed in the stack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Implementing Parameter-Passing Methods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75" name="Content Placeholder 5" descr="fig_09_02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67280" cy="3562560"/>
          </a:xfrm>
          <a:prstGeom prst="rect">
            <a:avLst/>
          </a:prstGeom>
          <a:ln w="0">
            <a:noFill/>
          </a:ln>
        </p:spPr>
      </p:pic>
      <p:sp>
        <p:nvSpPr>
          <p:cNvPr id="17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32D7890-ECD3-4C1E-B699-26A1B84053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Box 6"/>
          <p:cNvSpPr/>
          <p:nvPr/>
        </p:nvSpPr>
        <p:spPr>
          <a:xfrm>
            <a:off x="762480" y="5257800"/>
            <a:ext cx="738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unction header: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ub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a,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b,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c,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Function call in main: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ub(w, x, y, z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(pass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w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by value,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by result,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y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by value-result,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z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by referen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38F189E-A424-4BA1-91D9-A6F460D599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Parameter Passing Methods of Major Languag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ass-by-value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ass-by-reference is achieved by using pointers as parameter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++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A special pointer type called reference type for pass-by-reference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Java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All parameters are passed are passed by value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Object parameters are passed by reference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DF5AAF1-A53A-4714-B464-311D727C9D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Parameter Passing Methods of Major Languages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ortran 95+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Parameters can be declared to be in, out, or inout mod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#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efault method: pass-by-val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ass-by-reference is specified by preceding both a formal parameter and its actual parameter with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HP: very similar to C#, except that either the actual or the formal parameter can specify ref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erl: all actual parameters are implicitly placed in a predefined array name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@_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Python and Ruby use pass-by-assignment (all data values are objects); the actual is assigned to the form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4FABEBE-9521-4BBC-9EF2-5CEBB2054C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ype Checking Paramet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sidered very important for reliabilit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ORTRAN 77 and original C: non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scal and Java: it is always requir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SI C and C++: choice is made by the us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roto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latively new languages Perl, JavaScript, and PHP do not require type check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 Python and Ruby, variables do not have types (objects do), so parameter type checking is not possi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8CEA93A-A121-4E06-B944-7E79E7D3F1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Multidimensional Arrays as Parameter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a multidimensional array is passed to a subprogram and the subprogram is separately compiled, the compiler needs to know the declared size of that array to build the storage mapping fun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03C5124-A879-4B62-BB0C-95FE5F754B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Multidimensional Arrays as Parameters: C and C++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grammer is required to include the declared sizes of all but the first subscript in the actual paramet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isallows writing flexible sub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lution: pass a pointer to the array and the sizes of the dimensions as other parameters; the user must include the storage mapping function in terms of the size parame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00835E6-6F74-4FE8-9BF0-C5911D33E9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Multidimensional Arrays as Parameters: Java and C#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milar to Ad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rrays are objects; they are all single-dimensioned, but the elements can be array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ach array inherits a named constant (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ngt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n Java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ngt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n C#) that is set to the length of the array when the array object is creat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472D29D-164E-489E-B97A-F9F2AAB035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wo fundamental abstraction faciliti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cess abstraction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Emphasized from early days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Discussed in this chapter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ata abstrac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Emphasized in the1980s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Discussed at length in Chapter 11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E5A26F6-B2CF-420A-B839-141AAC228C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Design Considerations for Parameter Passing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wo important considera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ffici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ne-way or two-way data transf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ut the above considerations are in conflic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Good programming suggest limited access to variables, which means one-way whenever possi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ut pass-by-reference is more efficient to pass structures of significant siz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5CDF92D-9F52-4E93-B7DE-C0D67B572D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rameters that are Subprogram Nam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t is sometimes convenient to pass subprogram names as parame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457200" indent="-45720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ssu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38080" indent="-380880">
              <a:spcBef>
                <a:spcPts val="601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parameter types checke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38080" indent="-380880">
              <a:spcBef>
                <a:spcPts val="601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at is the correct referencing environment for a subprogram that was sent as a parameter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956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5E24639-6D0E-4F67-808F-66D6FE4447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rameters that are Subprogram Names: Referencing Environmen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Shallow bind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The environment of the call statement that enacts the passed subprogra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Most natural for dynamic-scop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eep bind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The environment of the definition of the passed subprogram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Most natural for static-scoped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d hoc bind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The environment of the call statement that passed the subprogra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alling Subprograms Indirectl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ually when there are several possible subprograms to be called and the correct one on a particular run of the program is not know until execution (e.g., event handling and GUIs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C and C++, such calls are made through function poin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DC05250-4381-43FC-840D-21CECA6C67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alling Subprograms Indirectly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09120" y="137160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C#, method pointers are implemented as objects 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elegat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delegate declaration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delegate in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hange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his delegate type, name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hang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can be instantiated with any method that takes 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parameter and returns 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valu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method: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atic in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1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) { … 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stantiate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hange chgfun1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Change(fun1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n be called with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hgfun1(12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A delegate can store more than one address, which is called 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multicast delegat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942C835-4FC1-4F98-92B9-EF5E8436E0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sign Issues for Func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side effects allowe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arameters should always be in-mode to reduce side effect (like Ada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at types of return values are allowe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ost imperative languages restrict the return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 allows any type except arrays and function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++ is like C but also allows user-defined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Java and C# methods can return any type (but because methods are not types, they cannot be returne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ython and Ruby treat methods as first-class objects, so they can be returned, as well as any other clas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ua allows functions to return multiple valu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09AA5F9-2DF0-4858-8A01-63F80BC613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BE09861-FC93-4C2E-B51B-090E75263E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Overloaded Subprogra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overloaded subprogram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one that has the same name as another subprogram in the same referencing environ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very version of an overloaded subprogram has a unique protoco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++, Java, C#, and Ada include predefined overloaded subprograms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 Ada, the return type of an overloaded function can be used to disambiguate calls (thus two overloaded functions can have the same parameter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a, Java, C++, and C# allow users to write multiple versions of subprograms with the same na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E207ABD-A420-43D7-9396-AB19C8BAD5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eneric Subprogra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generic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 or </a:t>
            </a:r>
            <a:r>
              <a:rPr b="0" i="1" lang="en-US" sz="2400" spc="-1" strike="noStrike">
                <a:solidFill>
                  <a:srgbClr val="002060"/>
                </a:solidFill>
                <a:latin typeface="Lucida Sans Unicode"/>
              </a:rPr>
              <a:t>polymorphic subprogram</a:t>
            </a:r>
            <a:r>
              <a:rPr b="0" lang="en-US" sz="2400" spc="-1" strike="noStrike">
                <a:solidFill>
                  <a:srgbClr val="00206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akes parameters of different types on different activ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verloaded subprograms provide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ad hoc polymorphis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ubtype polymorphism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eans that a variable of type T can access any object of type T or any type derived from T (OOP language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subprogram that takes a generic parameter that is used in a type expression that describes the type of the parameters of the subprogram provide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arametric polymorphism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A cheap compile-time substitute for dynamic bind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eneric Subprogram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Versions of a generic subprogram are created implicitly when the subprogram is named in a call or when its address is taken with the &amp; operat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Generic subprograms are preceded by a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emplat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that lists the generic variables, which can be type names or class nam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emplat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&lt;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Type&gt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ype max(Type first, Type second)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first &gt; second ? first : second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56F0BF1-C2C3-4D87-92AC-E17278AB76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D743B33-7CD8-4F6D-8A71-85B9085AAB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eneric Subprogram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Java 5.0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Differences between generics in Java 5.0 and those of C++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1. Generic parameters in Java 5.0 must be clas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2. Java 5.0 generic methods are instantiated just once as truly generic method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3. Restrictions can be specified on the range of classes that can be passed to the generic method as generic parameter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4. Wildcard types of generic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E8B7F8C-EB17-4A8A-AC93-8871C443FB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undamentals of Subprogra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ach subprogram has a single entry poi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calling program is suspended during execution of the called subprogra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trol always returns to the caller when the called subprogram’s execution terminat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eneric Subprogram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Java 5.0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static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T&gt; T doIt(T[] list) { … 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he parameter is an array of generic elements (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the name of the type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A call: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oIt&lt;String&gt;(myList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Generic parameters can have bound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static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xtend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Comparable&gt; T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oIt(T[] list) { … 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generic type must be of a class that implements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arabl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nterfac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4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C7AE5CA-3F55-4F3F-ACB2-E11EC5B667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eneric Subprogram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Java 5.0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ildcard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llection&lt;?&gt;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 wildcard type for collection clas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printCollection(Collection&lt;?&gt; c)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(Object e: c)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ystem.out.println(e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Works for any collection cla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4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4B527CF-B24E-4078-AE8F-D24A91E05D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C236DA0-54B1-4A9E-B3D9-65A7A3207B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eneric Subprogram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# 2005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pports generic methods that are similar to those of Java 5.0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One difference: actual type parameters in a call can be omitted if the compiler can infer the unspecified ty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other – C# 2005 does not support wildcar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eneric Subprogram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1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#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fers a generic type if it cannot determine the type of a parameter or the return type of a function –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automatic generaliz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ch types are denoted with an apostrophe and a single letter, 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′a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ctions can be defined to have generic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printPair (x: ′a) (y: ′a) =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fn ″%A %A″ x 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 format code for any ty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hese parameters are not type constrain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FE0BC65-40E0-4234-9AC1-48BCB4B9BE3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eneric Subprogram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# (continued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the parameters of a function are used with arithmetic operators, they are type constrained, even if the parameters are specified to be gener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ecause of type inferencing and the lack of type coercions, F# generic functions are far less useful than those of C++, Java 5.0+, and C# 2005+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FDB7A13-4A6E-4225-8A3A-DA6AE7C686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F667231-10DB-4C76-8FD2-A4BB1F76D0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User-Defined Overloaded Operato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perators can be overloaded in Ada, C++, Python, and Rub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Python examp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f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__add__ (self, second) 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Complex(self.real + second.real,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elf.imag + second.imag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Use: To comput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 + y, x.__add__(y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osur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losur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subprogram and the referencing environment where it was defin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referencing environment is needed if the subprogram can be called from any arbitrary place in the progra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static-scoped language that does not permit nested subprograms doesn’t need closur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losures are only needed if a subprogram can access variables in nesting scopes and it can be called from anywher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o support closures, an implementation may need to provide unlimited extent to some variables (because a subprogram may access a nonlocal variable that is normally no longer alive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31ED21A-77FE-4238-A57B-DFD8201105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osur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JavaScript closure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ctio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makeAdder(x)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function(y) {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+ y;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add10 = makeAdder(10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add5 = makeAdder(5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ocument.write(″add 10 to 20: ″ + add10(20) +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″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br /&gt;″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ocument.write(″add 5 to 20: ″ + add5(20) +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″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br /&gt;″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- The closure is the anonymous function returned by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keAdd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291600" indent="-291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7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4390C08-48B2-4D21-8201-DDBBF57CB0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osure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#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e can write the same closure in C# using a nested anonymous delegat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99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c&lt;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gt;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(the return type)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pecifies a delegate that takes an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as a parameter and returns and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atic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Func&lt;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gt; makeAdder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)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delegate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y) {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tur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+ y;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c&lt;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gt; Add10 = makeAdder(10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c&lt;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gt; Add5 = makeAdder(5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sole.WriteLine(″Add 10 to 20: {0}″, Add10(20)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sole.WriteLine(″Add 5 to 20: {0}″, Add5(20)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7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1B01F3E-6939-44B6-A452-4C43C01E93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7AEF035-29D6-4EC1-B968-0AB4ABF0F9C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routin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coroutin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 subprogram that has multiple entries and controls them itself – supported directly in Lua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so cal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symmetric control: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ller and called coroutines are on a more equal basi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coroutine call is named 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resu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first resume of a coroutine is to its beginning, but subsequent calls enter at the point just after the last executed statement in the coroutin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routines repeatedly resume each other, possibly forev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routines provid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quasi-concurrent executio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f program units (the coroutines); their execution is interleaved, but not overlapp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D6DB283-1076-4315-B112-F822D43858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Basic Defini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subprogram definition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describes the interface to and the actions of the subprogram abstra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In Python, function definitions are executable; in all other languages, they are non-executabl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In Ruby, function definitions can appear either in or outside of class definitions. If outside, they are methods of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Object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. They can be called without an object, like a function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In Lua, all functions are anonymou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subprogram call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an explicit request that the subprogram be execut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subprogram header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the first part of the definition, including the name, the kind of subprogram, and the formal paramet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parameter profil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(aka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signatur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) of a subprogram is the number, order, and types of its paramet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protocol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a subprogram’s parameter profile and, if it is a function, its return typ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CB4F16D-465C-435C-976F-2BDA287664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routines Illustrated: Possible Execution Control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86" name="Picture 4" descr=""/>
          <p:cNvPicPr/>
          <p:nvPr/>
        </p:nvPicPr>
        <p:blipFill>
          <a:blip r:embed="rId1"/>
          <a:stretch/>
        </p:blipFill>
        <p:spPr>
          <a:xfrm>
            <a:off x="685800" y="1295280"/>
            <a:ext cx="754380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33CC210-E12C-45E3-8EA4-4E6BAFE8A2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routines Illustrated: Possible Execution Control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43580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5BDC959-4573-43E0-A7AC-CA6400D163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routines Illustrated: Possible Execution Controls with Loop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94" name="Picture 4" descr=""/>
          <p:cNvPicPr/>
          <p:nvPr/>
        </p:nvPicPr>
        <p:blipFill>
          <a:blip r:embed="rId1"/>
          <a:stretch/>
        </p:blipFill>
        <p:spPr>
          <a:xfrm>
            <a:off x="838080" y="1752480"/>
            <a:ext cx="74106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7713166-F1B1-47C4-B20A-3183441270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subprogram definition describes the actions represented by the subprogra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bprograms can be either functions or procedur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cal variables in subprograms can be stack-dynamic or stat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ree models of parameter passing: in mode, out mode, and inout mod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ome languages allow operator overload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bprograms can be gener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closure is a subprogram and its ref. environ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coroutine is a special subprogram with multiple entri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EBBFB69-9928-4DEB-AFCE-A40554B523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Basic Definition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ction declarations in C and C++ are often cal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proto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subprogram declaratio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provides the protocol, but not the body, of the subprogra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formal paramete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 dummy variable listed in the subprogram header and used in the subprogra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actual paramete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represents a value or address used in the subprogram call stat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ACF33FF-8FAA-4CAE-9852-81EA00C67E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ctual/Formal Parameter Correspondenc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sition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binding of actual parameters to formal parameters is by position: the first actual parameter is bound to the first formal parameter and so forth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afe and effectiv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Keywor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name of the formal parameter to which an actual parameter is to be bound is specified with the actual paramet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Advantag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: Parameters can appear in any order, thereby avoiding parameter correspondence erro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Disadvantag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: User must know the formal parameter’s nam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8269DF6-C699-4F2C-9DB5-D7DBECD70A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ormal Parameter Default Valu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 certain languages (e.g., C++, Python, Ruby, PHP), formal parameters can have default values (if no actual parameter is passe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In C++, default parameters must appear last because parameters are positionally associated (no keyword parameters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05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ariable numbers of parame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# methods can accept a variable number of parameters as long as they are of the same type—the corresponding formal parameter is an array preceded by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param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 Ruby, the actual parameters are sent as elements of a hash literal and the corresponding formal parameter is preceded by an asterisk.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Variable Numbers of Parameters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 Python, the actual is a list of values and the corresponding formal parameter is a name with an asterisk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 Lua, a variable number of parameters is represented as a formal parameter with three periods; they are accessed with a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statement or with a multiple assignment from the three period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9B1C4CA-7493-4302-8682-897CAC0674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3:35Z</dcterms:modified>
  <cp:revision>71</cp:revision>
  <dc:subject/>
  <dc:title>Chapter 1</dc:title>
</cp:coreProperties>
</file>