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2DDDF-696C-463C-8E27-5B88324DC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258E-4A9C-46CD-9515-5C8B92BF6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FE75-4EB3-4C46-946E-3D35BB1D0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4A29-F800-4C68-953A-076397E97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6DF3-EA61-4AF4-A72A-94FBA3750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927C-28D8-4B93-B7F3-C70F1B895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A742B-C37D-4DF5-BE9B-C9528D6AD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9E13C-BB7B-4B1B-92DB-0A4A46C856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FCEF-5F67-4F38-956E-AC56FE0DAC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7159-0CF1-480A-AC72-ABBA270E65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8674-05C0-47B8-9070-AADB76317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C5CFB-5204-4E62-B006-4A34F635C0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F367-85EF-4574-8B5C-1199A7A489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2EE1-BC96-415C-BAEE-07591030A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3D60-9F42-45FC-8ECA-0444F4C15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9E26-CD63-4417-97AD-CA65175F0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7CA7-FD8C-480A-A204-FE9F3B5ED7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B8B3-B687-4EA3-8CA8-A9447E5BC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8B5A-4122-4009-B7F9-63278FB94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36EB-5D9B-474C-A831-1EF540F3B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40A1-2BB7-4427-9079-DDC134F14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C0FA-6A0D-4564-A7C9-B4710835C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19F1-667F-4DB3-B6B9-E55E83B14C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2874-E3A2-40A3-BAE9-CA75C60F3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7653-D3E7-4E3D-B3AE-0D43F06BE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8D11-CBBF-4BA2-AADE-EA31EC124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3F8C-F00D-4BEF-AACF-08B5EB71D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FACB5-363D-4215-94D0-E3C01785B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97EB-00FD-4FD2-81A0-023B408B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42788-80A7-4F9B-8B3A-B38584762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F5F5-490D-46C2-838A-51DD7AF7D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4A69-908F-4D94-896D-DC412E0D24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B434-20A4-4F97-BA76-04731E95F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3479-6AC9-4420-9089-6F27A3790A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AD80-65ED-4B4B-A57B-55E039AB9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1183-F878-49A9-838A-52121C22F9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6C92A-3501-4FB7-AF4B-30355E8FB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38E5F-6B81-409F-87B9-FD0B0A74D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FE90-B640-40EC-9614-1C67563B1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19EF-EECB-44CE-92AA-EA9410F1E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3438-EEDA-4175-B6F1-187350765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C47FB-C8DB-430B-BC79-7DE61A77E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0956-2A30-4CEA-BCEB-3FE8B25E4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F30B-FFD3-4D78-93C7-759D26D46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8D6F6-A474-4449-B548-E38394505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2023C-2DA7-4B38-B60D-8723AD404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8545-5CB3-4C4F-A62A-397F5D19C1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117B1-4BD5-4549-A3B4-E59855B73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28800-CB03-465E-9F13-DC1051AE5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C74C-E52C-4337-82E7-6534A3B5A1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40620-CD5F-42C8-82B1-ACBFF4232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1C599-8716-4D75-BD45-172F4F465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D12A-49D3-46C8-A8ED-8B4DC36BDA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5C82-7254-4E9B-BE11-96E2AA5E478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DC6E-39D3-4B55-AF25-A805924E0E0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8EF7-A8FB-418A-8726-3E1F0BCF40E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063A-47E7-424D-A27D-ABE234A02B7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CCF0-397F-4CE7-A898-CEB7A92BB18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7D2B-DAF1-404D-8D35-14C31C2F5B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EEEDF-4313-424B-97E5-8AD3EC7BA8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07E-856A-4BF6-9CF7-C61343235DC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3305-FEE5-4D25-B0AC-4E03A5E413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6B3-4A96-4E62-AB33-90C2090C8B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33E-F5DA-45F5-90BF-73EF96AE1F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BB4-E389-4485-AEA8-5D9EA1FF5E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2C5B7-A607-4865-B9EC-49C34CBB7A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6C14-2549-44AE-B827-CA8132B17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3334-1A61-4A77-8616-BE46A9862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B5C58-6E7A-4984-819D-74EC5A461B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692E-D079-46BE-AF21-FB7CBFC331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AC102-4378-4C6C-A4E9-6A848056B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E7F45-E4B8-45EF-97F1-70EE06B2A8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16ECDA3-0EB8-4C55-9D2D-FE35629AA5D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89F73DC-4F61-4BD9-8231-5380841E11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15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Functional Programming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889CF7C-C93A-403E-A51A-1E737459B38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p Data Types and Structur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ata object type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originally only atoms and lis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List form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parenthesized collections of sublists and/or ato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(A B (C D) 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riginally, Lisp was a typeless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isp lists are stored internally as single-linked lis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41EC34C-F2E4-43E9-ACE8-8A59CBF61B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p Interpret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mbda notation is used to specify functions and function definitions. Function applications and data have the same form.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.g., If the list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A B C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interpreted as data it i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simple list of three atoms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and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it is interpreted as a function application,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means that the function named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A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pplied to the two parameters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B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first Lisp interpreter appeared only as a  demonstration of the universality of the computational capabilities of the not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DF04F66-B913-4E1E-95CF-EDD0A135DE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Origins of Schem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mid-1970s dialect of Lisp, designed to be a cleaner, more modern, and simpler version than the contemporary dialects of Lisp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s only static scop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unctions are first-class entiti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y can be the values of expressions and elements of lis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y can be assigned to variables, passed as parameters, and returned from func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Scheme Interpreter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interactive mode, the Scheme interpreter is an infinite read-evaluate-print loop (REPL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is form of interpreter is also used by Python and Rub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pressions are interpreted by the functio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VA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iterals evaluate to themselv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3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0F91314-5E5A-4A98-92A6-E1E81AEFEF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7AEC0C7-C970-4E40-94C2-951DF433F34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imitive Function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rameters are evaluated, in no particular ord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values of the parameters are substituted into the function bod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function body is evaluat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value of the last expression in the body is the value of the fun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B1797E-CE73-48D2-A8FE-68C219A298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Primitive Functions &amp; </a:t>
            </a:r>
            <a:r>
              <a:rPr b="0" lang="en-US" sz="2400" spc="-1" strike="noStrike">
                <a:solidFill>
                  <a:srgbClr val="666699"/>
                </a:solidFill>
                <a:latin typeface="Courier New"/>
                <a:ea typeface="Courier New"/>
              </a:rPr>
              <a:t>LAMBDA</a:t>
            </a: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 Expression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rimitive Arithmetic Functions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/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AB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QRT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REMAINDER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IN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A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+ 5 2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yield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7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ambda Expression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orm is based on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nota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LAMBDA (x) (* x x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called a bound variabl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ambda expressions can be applied to paramet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(LAMBDA (x) (* x x)) 7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LAMBDA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expressions can have any number of paramet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LAMBDA (a b x) (+ (* a x x) (* b x)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9783124-E8E0-44C7-A342-F17DF32134A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pecial Form Function: </a:t>
            </a:r>
            <a:r>
              <a:rPr b="0" lang="en-US" sz="3600" spc="-1" strike="noStrike">
                <a:solidFill>
                  <a:srgbClr val="666699"/>
                </a:solidFill>
                <a:latin typeface="Courier New"/>
              </a:rPr>
              <a:t>DEFIN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DEFIN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- Two form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o bind a symbol to an express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DEFINE pi 3.141593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ample use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DEFINE two_pi (* 2 pi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31436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666699"/>
                </a:solidFill>
                <a:latin typeface="Courier New"/>
              </a:rPr>
              <a:t>   </a:t>
            </a:r>
            <a:r>
              <a:rPr b="0" lang="en-US" sz="1700" spc="-1" strike="noStrike" u="sng">
                <a:solidFill>
                  <a:srgbClr val="666699"/>
                </a:solidFill>
                <a:uFillTx/>
                <a:latin typeface="Lucida Sans Unicode"/>
              </a:rPr>
              <a:t>These symbols are not variables </a:t>
            </a:r>
            <a:r>
              <a:rPr b="0" lang="en-US" sz="1700" spc="-1" strike="noStrike">
                <a:solidFill>
                  <a:srgbClr val="666699"/>
                </a:solidFill>
                <a:latin typeface="Lucida Sans Unicode"/>
              </a:rPr>
              <a:t>– they are like the names bound by Java’s </a:t>
            </a:r>
            <a:r>
              <a:rPr b="1" lang="en-US" sz="1700" spc="-1" strike="noStrike">
                <a:solidFill>
                  <a:srgbClr val="666699"/>
                </a:solidFill>
                <a:latin typeface="Courier New"/>
                <a:ea typeface="Courier New"/>
              </a:rPr>
              <a:t>final</a:t>
            </a:r>
            <a:r>
              <a:rPr b="0" lang="en-US" sz="1700" spc="-1" strike="noStrike">
                <a:solidFill>
                  <a:srgbClr val="666699"/>
                </a:solidFill>
                <a:latin typeface="Lucida Sans Unicode"/>
              </a:rPr>
              <a:t> declarations</a:t>
            </a:r>
            <a:endParaRPr b="0" lang="en-US" sz="17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914400" indent="-457200">
              <a:spcBef>
                <a:spcPts val="499"/>
              </a:spcBef>
              <a:buClr>
                <a:srgbClr val="333399"/>
              </a:buClr>
              <a:buFont typeface="Lucida Sans Unicod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o bind names to lambda expressions (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LAMBDA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implicit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DEFINE (square x) (* x x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ample use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square 5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evaluation process for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IN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different! The first parameter is never evaluated. The second parameter is evaluated and bound to the first parameter.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56A7168-6E95-42C7-9C49-00F893B2D6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Output Func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ually not needed, because the interpreter always displays the result of a function evaluated at the top level (not nested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cheme ha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RINTF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which is similar to th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printf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function of 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ote: explicit input and output are not part of the pure functional programming model, because input operations change the state of the program and output operations are side effec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484DE94-6F0C-429C-BC69-EDBF42B6547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umeric Predicate Func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or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 is true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F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or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f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 is false (sometime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)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used for fals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=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&lt;&gt;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&gt;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&lt;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&gt;=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&lt;=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VEN?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ODD?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ZERO?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NEGATIVE?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NO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function inverts the logic of a Boolean express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699D7A7-888D-4444-AF78-6FF2C9D600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ntrol Flow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lection- the special form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IF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edicate then_exp else_exp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IF (&lt;&gt; count 0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/ sum count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call from Chapter 8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N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function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DEFINE (leap? year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ON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(ZERO? (MODULO year 400)) #T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(ZERO? (MODULO year 100)) #F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ELSE (ZERO? (MODULO year 4)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6393E82-F111-4022-A3C5-4070C2433E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15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610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Introduction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Mathematical Function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Fundamentals of Functional Programming Languages 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The First Functional Programming Language: Lisp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Introduction to Scheme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Common Lisp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ML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Haskell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F#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Support for Functional Programming in Primarily Imperative Language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Comparison of Functional and Imperative Language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CE790DB-6175-4DF4-B71A-05092D28ED1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Func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QUOT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-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akes one parameter; returns the parameter without evaluation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QUOT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required because the Scheme interpreter, name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VAL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always evaluates parameters to function applications before applying the function.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QUOT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used to avoid parameter evaluation when it is not appropriat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9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QUOT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can be abbreviated with the apostrophe prefix operato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'(A B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equivalent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QUOTE (A B)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609480" indent="-60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call tha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D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ON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were covered in Chapter 6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799DC56-94A4-416F-B523-EE1EF40F1C1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Function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AR ′((A B) C D))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return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B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AR ′A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is an err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DR ′((A B) C D)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 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DR ′A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is an err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DR ′(A)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ONS ′() ′(A B)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() A B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ONS ′(A B) ′(C D)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(A B) C 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CONS ′A ′B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. B)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(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otted pai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st Function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function for building a list from any number of parame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LIST ′apple ′orange ′grape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tur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pple orange grape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49EBA59-3C02-4612-9FEF-E76D4B804D9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0D0A92C-BD06-47C4-8D71-43A430102B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edicate Function: </a:t>
            </a:r>
            <a:r>
              <a:rPr b="0" lang="en-US" sz="2800" spc="-1" strike="noStrike">
                <a:solidFill>
                  <a:srgbClr val="666699"/>
                </a:solidFill>
                <a:latin typeface="Courier New"/>
              </a:rPr>
              <a:t>EQ?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Q?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akes two expressions as parameters (usually two atoms); it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f both parameters have the same pointer value; otherwis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EQ? 'A 'A)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yield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EQ? 'A 'B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yield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EQ? 'A '(A B))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yield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EQ? '(A B) '(A B)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yield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r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EQ? 3.4 (+ 3 0.4))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yield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T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r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edicate Function: </a:t>
            </a:r>
            <a:r>
              <a:rPr b="0" lang="en-US" sz="2800" spc="-1" strike="noStrike">
                <a:solidFill>
                  <a:srgbClr val="666699"/>
                </a:solidFill>
                <a:latin typeface="Courier New"/>
              </a:rPr>
              <a:t>EQV?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QV?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lik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Q?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except that it works for both symbolic and numeric atoms; it is a value comparison, not a pointer comparis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EQV? 3 3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yield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EQV?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'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 3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yield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EQV 3.4 (+ 3 0.4)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yield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EQV? 3.0 3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yield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F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floats and integers are different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580949E-96B2-4E20-BE7A-0663392A97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7424C90-59BC-41C8-8EEB-CEFB2F8722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Predicate Functions: </a:t>
            </a:r>
            <a:r>
              <a:rPr b="0" lang="en-US" sz="2800" spc="-1" strike="noStrike">
                <a:solidFill>
                  <a:srgbClr val="666699"/>
                </a:solidFill>
                <a:latin typeface="Courier New"/>
              </a:rPr>
              <a:t>LIST?</a:t>
            </a: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 and </a:t>
            </a:r>
            <a:r>
              <a:rPr b="0" lang="en-US" sz="2800" spc="-1" strike="noStrike">
                <a:solidFill>
                  <a:srgbClr val="666699"/>
                </a:solidFill>
                <a:latin typeface="Courier New"/>
              </a:rPr>
              <a:t>NULL?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LIST?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akes one parameter; it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f the parameter is a list; otherwis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LIST? '()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yield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NULL?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akes one parameter; it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f the parameter is the empty list; otherwise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281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NULL? '(())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yield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5937F2D-740F-495D-8F68-C8C7D9B0D08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ample Scheme Function: </a:t>
            </a:r>
            <a:r>
              <a:rPr b="0" lang="en-US" sz="3600" spc="-1" strike="noStrike">
                <a:solidFill>
                  <a:srgbClr val="666699"/>
                </a:solidFill>
                <a:latin typeface="Courier New"/>
              </a:rPr>
              <a:t>member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membe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akes an atom and a simple list; return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#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f the atom is in the list;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#F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therwis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DEFINE (member atm a_list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CON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NULL? a_list) #F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EQ? atm (CAR lis)) #T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ELSE (member atm (CDR a_list)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)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 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74C9A0E-01C4-4941-BE7B-AF7AB92757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Example Scheme Function: </a:t>
            </a:r>
            <a:r>
              <a:rPr b="0" lang="en-US" sz="3200" spc="-1" strike="noStrike">
                <a:solidFill>
                  <a:srgbClr val="666699"/>
                </a:solidFill>
                <a:latin typeface="Courier New"/>
              </a:rPr>
              <a:t>equalsimp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qualsimp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akes two simple lists as parameters; return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#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f the two simple lists are equal;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#F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therwis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DEFINE (equalsimp list1 list2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CON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NULL? list1) (NULL? list2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NULL? list2) #F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EQ? (CAR list1) (CAR list2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equalsimp(CDR list1)(CDR list2)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ELSE #F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FB44EB3-9F8D-40EC-813E-A1D8D74E88F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ample Scheme Function: </a:t>
            </a:r>
            <a:r>
              <a:rPr b="0" lang="en-US" sz="3600" spc="-1" strike="noStrike">
                <a:solidFill>
                  <a:srgbClr val="666699"/>
                </a:solidFill>
                <a:latin typeface="Courier New"/>
              </a:rPr>
              <a:t>equa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qual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akes two general lists as parameters;  return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#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f the two lists are equal;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#F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therwis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DEFINE (equal list1 list2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CON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NOT (LIST? list1))(EQ? list1 list2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NOT (LIST? lis2)) #F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NULL? list1) (NULL? list2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NULL? list2) #F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equal (CAR list1) (CAR list2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equal (CDR list1) (CDR list2)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ELSE #F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EF3AC51-F96B-40C5-BF02-D391F1CB5D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ample Scheme Function: </a:t>
            </a:r>
            <a:r>
              <a:rPr b="0" lang="en-US" sz="3600" spc="-1" strike="noStrike">
                <a:solidFill>
                  <a:srgbClr val="666699"/>
                </a:solidFill>
                <a:latin typeface="Courier New"/>
              </a:rPr>
              <a:t>append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appen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akes two lists as parameters; returns the first parameter list with the elements of the second parameter list appended at the en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DEFINE (append list1 list2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CON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NULL? list1) list2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ELSE (CONS (CAR list1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append (CDR list1) list2)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6077017-F3BF-4FF5-B748-8187268609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design of the imperative languages is based directly on the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von Neumann architectu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fficiency is the primary concern, rather than the suitability of the language for software develop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design of the functional languages is based o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mathematical func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solid theoretical basis that is also closer to the user, but relatively unconcerned with the architecture of the machines on which programs will ru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AF03A4E-C1B5-4D5D-A085-C26F8B6351A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ample Scheme Function: </a:t>
            </a:r>
            <a:r>
              <a:rPr b="0" lang="en-US" sz="3600" spc="-1" strike="noStrike">
                <a:solidFill>
                  <a:srgbClr val="666699"/>
                </a:solidFill>
                <a:latin typeface="Courier New"/>
              </a:rPr>
              <a:t>LE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call that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as discussed in Chapter 5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ctually shorthand for a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LAMBDA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pression applied to a paramet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(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LET ((alpha 7))(* 5 alpha)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s the same a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(LAMBDA (alpha) (* 5 alpha)) 7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61D4068-CFB3-4177-9936-F83F9DEE76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ourier New"/>
              </a:rPr>
              <a:t>LET</a:t>
            </a: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 Exampl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(DEFINE (quadratic_roots a b c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(LET (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(root_part_over_2a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(/ (SQRT (- (* b b) (* 4 a c)))(* 2 a)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(minus_b_over_2a (/ (- 0 b) (* 2 a)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(LIST (+ minus_b_over_2a root_part_over_2a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(- minus_b_over_2a root_part_over_2a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MS Mincho"/>
              </a:rPr>
              <a:t>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ail Recursion in Schem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finition: A function is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tail recursive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its recursive call is the last operation in the fun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ail recursive function can be automatically converted by a compiler to use iteration, making it fast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cheme language definition requires that Scheme language systems convert all tail recursive functions to use iter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7BE238E-7886-4CC6-B8E3-A63FE7F5D46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ail Recursion in Scheme -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continued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1447920"/>
            <a:ext cx="8153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 of rewriting a function to make it tail recursive, using helper a fun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Original: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(DEFINE (factorial n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(IF (&lt;= n 0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1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(* n (factorial (- n 1))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Tail recursive: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(DEFINE (facthelper n factpartial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(IF (&lt;= n 0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factpartial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facthelper((- n 1) (* n factpartial))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(DEFINE (factorial n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(facthelper n 1)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298440" indent="-298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CF1493F-2E36-4FBF-9352-9A8F28E760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1654B60-ACA7-4BC0-AA4A-6F6CF525A2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Functional Form - Composition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osi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h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the composition o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g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h(x) = f(g(x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DEFINE (g x) (* 3 x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DEFINE (f x) (+ 2 x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DEFINE h x) (+ 2 (* 3 x))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(The composition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 Scheme, the functional composition functio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ompos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can be written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DEFINE (compose f g) (LAMBDA (x) (f (g x))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(compose CAR CDR) '((a b) c d)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yield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DEFINE (third a_list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(compose CAR (compose CDR CDR)) a_list)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s equivalent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ADD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unctional Form – Apply-to-Al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pply to All - one form in Scheme i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map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pplies the given function to all elements of the given list;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DEFINE (map fun a_list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COND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(NULL? a_list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'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)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ELSE (CONS (fun (CAR a_list)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map fun (CDR a_list)))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map (LAMBDA (num) (* num num num))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'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3 4 2 6))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yields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(27 64 8 216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729FDC4-A34B-4D4E-9C1C-32C0523F42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AF1DA9E-C7F4-4C96-91BB-6D019C3FE7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unctions That Build Co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t is possible in Scheme to define a function that builds Scheme code and requests its interpret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s is possible because the interpreter is a user-available function,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VA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22AB2F4-8002-45C7-B7A8-15156159D4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dding a List of Numb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(DEFINE (adder a_list)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COND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(NULL? a_list) 0)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(ELSE (EVAL (CONS '+ a_list)))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))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parameter is a list of numbers to be added;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adde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nserts a </a:t>
            </a:r>
            <a:r>
              <a:rPr b="0" lang="en-US" sz="2200" spc="-1" strike="noStrike">
                <a:solidFill>
                  <a:srgbClr val="333399"/>
                </a:solidFill>
                <a:latin typeface="Courier New"/>
              </a:rPr>
              <a:t>+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perator and evaluates the resulting lis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Us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ON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to insert the atom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nto the list of numbers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Be sure tha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quoted to prevent evalua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ubmit the new list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VAL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for evalua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B1D50D9-A404-4D22-8133-20ACAFA4B91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mon Lisp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combination of many of the features of the popular dialects of Lisp around in the early 1980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large and complex language--the opposite of Sche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eatures include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records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rrays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omplex numb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haracter string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owerful I/O capabiliti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ackages with access contro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terative control statemen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mon Lisp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acro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reate their effect in two step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Expand the macro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Evaluate the expanded macro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me of the predefined functions of Common Lisp are actually macro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rs can define their own macros with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DEFMACRO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4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3EAE0C2-4850-4D46-BA77-2834DAF622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F1951B5-1A0A-40F9-B0CD-3F398AC0CC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athematical Func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mathematical function is 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mapp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f members of one set, called the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omain se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to another set, called the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ange se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lambda express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specifies the parameter(s) and the mapping of a function in the following for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(x) x * x * x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 the function 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cube(x) = x * x * x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mon Lisp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ckquote operator (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`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imilar to the Scheme’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QUOT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except that some parts of the parameter can be unquoted by preceding them with comma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`(a (* 3 4) c)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valuates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(* 3 4) c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`(a ,(* 3 4) c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valuates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a 12 c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749754C-5330-4264-92F5-4CF23D0391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mon Lisp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13712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ader Macro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isp implementations have a front end called the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reader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that transforms Lisp into a code representation. Then macro calls are expanded into the code representation.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reader macro is a special kind of macro that is expanded during the reader pha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reader macro is a definition of a single character, which is expanded into its Lisp defini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n example of a reader macro is an apostrophe character, which is expanded into a call to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QUOTE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Users can define their own reader macros as a kind of shorthan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74E5187-0061-44FB-AF2F-7BDD72128F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mon Lisp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mon Lisp has a symbol data type (similar to that of Ruby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reserved words are symbols that evaluate to themselv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ymbols are either bound or unboun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Parameter symbols are bound while the function is being evaluated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Symbols that are the names of imperative style variables that have been assigned values are bound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All other symbols are unbound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6E8CBD5-BF6C-431A-87D1-7D598F2BAE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BC7222A-6037-481A-97F0-78EABA7251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static-scoped functional language with syntax that is closer to Pascal than to Lis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s type declarations, but also does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type inferencing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o determine the types of undeclared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is strongly typed (whereas Scheme is essentially typeless) and has no type coerc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oes not have imperative-style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s identifiers are untyped names for valu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cludes exception handling and a module facility for implementing abstract data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cludes lists and list oper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9A012E1-0D38-4C73-BAC3-15D78A46FF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 Specif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table called 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valuation environment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ores the names of all identifiers in a program, along with their types (like a run-time symbol table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ction declaration form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u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(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formal parameters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 =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expression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u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cube(x :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) = x * x * x;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type could be attached to return value, as in</a:t>
            </a: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cube(x) :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= x * x * x;</a:t>
            </a:r>
            <a:br>
              <a:rPr sz="20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With no type specified, it would default to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the default for numeric values)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User-defined overloaded functions are not allowed, so if we wanted a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ub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unction for real parameters, it would need to have a different na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8F487A2-4DD1-4677-872D-99627531DF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 Specific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L selectio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xpress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e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then_express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lse_express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re the first expression must evaluate to a Boolean valu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ttern matching is used to allow a function to operate on different parameter form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un fact(0) = 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|   fact(1) = 1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|   fact(n :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) :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= n * fact(n – 1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C3093BE-6CEF-4C74-B2D9-CF8F540E5F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 Specific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st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Literal lists are specified in bracket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3, 5, 7]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]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the empty list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the binary infix operator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: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4 :: [3, 5, 7]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which evaluates to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[4, 3, 5, 7]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the unary operator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h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D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the unary operator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l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un length([]) = 0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|   length(h :: t) = 1 + length(t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fun append([], lis2) = lis2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|   append(h :: t, lis2) = h :: append(t, lis2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D9A6B54-FA0A-47EE-91A6-C04CF7DB2B2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 Specific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statement binds a name to a value (similar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IN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n Scheme)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al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distance = time * speed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As is the case with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INE</a:t>
            </a: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al</a:t>
            </a: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 is nothing like an assignment statement in an imperative language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If there are two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 statements for the same identifier, the first is hidden by the second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100000"/>
              </a:lnSpc>
              <a:spcBef>
                <a:spcPts val="550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 statements are often used i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 construct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radius = 2.7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pi = 3.14159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i * radius * radiu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 Specific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filt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higher-order filtering function for lis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akes a predicate function as its parameter, often in the form of a lambda express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mbda expressions are defined like functions, except with the reserved wor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ilter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x) =&gt; x &lt; 100, [25, 1, 711, 50, 100]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This 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25, 1, 50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7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B2B3248-D75F-470B-95A9-FC01250D11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 Specific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ma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A higher-order function that takes a single parameter, a func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pplies the parameter function to each element of a list and returns a list of resul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cube x = x * x * x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cubeList = map cube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newList = cubeList [1, 3, 5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is set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newLis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1, 27, 125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Alternative: use a lambda express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newList = map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=&gt; x * x * x, [1, 3, 5]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8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80E143A-B42E-4897-8114-16BF40D833E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D8CF095-63C2-462F-AB8B-5614F9B950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mbda Express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mbda expressions describe nameless func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mbda expressions are applied to parameter(s) by placing the parameter(s) after the express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.g.,  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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(x) x * x * x)(2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ich evaluates to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8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 Specific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unction Composi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 the unary operator,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o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 h = g o f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8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E825AD9-7A4C-489C-B8AD-980BAAA073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 Specific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urry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L functions actually take just one parameter—if more are given, it considers the parameters a tuple (commas require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rocess of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currying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replaces a function with more than one parameter with a function with one parameter that returns a function that takes the other parameters of the original fun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n ML function that takes more than one parameter can be defined in curried form by leaving out the commas in the paramet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add a b = a + b; 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function with one parameter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. Returns a function that take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as a parameter.   Call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 3 5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53CCFB8-44B3-4679-B409-F1BEC538ED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L Specific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rtial Evalu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urried functions can be used to create new functions by partial evalu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rtial evaluation means that the function is evaluated with actual parameters for one or more of the leftmost actual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 add5 x add 5 x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akes the actual parameter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5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evaluates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unction with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5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s the value of its first formal parameter. Returns a function that add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5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o its single paramet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al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num = add5 10;  (* sets num to 15 *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0821ED8-B0CA-4237-9FDA-86024D28C0C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B1CB57A-F7C9-4706-9557-4FB88A92AA7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Haskel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imilar to ML (syntax, static scoped, strongly typed, type inferencing, pattern matching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ifferent from ML (and most other functional languages) in that it is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purely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functional (e.g., no variables, no assignment statements, and no side effects of any kin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yntax differences from ML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act 0 = 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act 1 = 1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fact n = n * fact (n – 1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fib 0 = 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b 1 = 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ib (n + 2) = fib (n + 1) + fib 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CC1DC2B-3140-4C02-ADB2-6E1A9EECFA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Function Definitions with Different Parameter Rang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913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act n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|  n == 0 = 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|  n == 1 = 1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|  n &gt; 0 = n * fact(n – 1)</a:t>
            </a:r>
            <a:br>
              <a:rPr sz="2000"/>
            </a:br>
            <a:br>
              <a:rPr sz="2000"/>
            </a:br>
            <a:br>
              <a:rPr sz="24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ub n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| n &lt; 10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= 0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| n &gt; 100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= 2</a:t>
            </a: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|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therwis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= 1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quare x = x * x</a:t>
            </a:r>
            <a:br>
              <a:rPr sz="2000"/>
            </a:b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- Because Haskell support polymorphism, thi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orks for any numeric type o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69E9728-6BDF-47DD-B752-549F3005EA4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Haskell Lis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st notation: Put elements in bracke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irections = ["north", "south", "east",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"west"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ength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.g.,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#directions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s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ithmetic series with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..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perat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2, 4..10]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s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2, 4, 6, 8, 10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tenation is with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++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1, 3] ++ [5, 7]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results i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1, 3, 5, 7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ON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A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CD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via the colon operat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.g.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1:[3, 5, 7]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results i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[1, 3, 5, 7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E8BFC5F-C8A5-41FC-AF71-A79DE277D7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Haskell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ttern Parame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roduct [] = 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roduct (a:x) = a * product 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actorial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act n = product [1..n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ist Comprehensions (Chapter 6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n * n * n | n &lt;- [1..50]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qualifier in this example has the form of 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generato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. It could be in the form of a tes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factors n = [i | i &lt;- [1..n `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div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` 2], n `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mod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` i == 0]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backticks specify the function is used as a binary operat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3E1C2BF-30AA-4FD7-B850-D7DBE1F490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Quicksor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ort [] = [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ort (h:t) =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ort [b | b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Arial Unicode MS"/>
              </a:rPr>
              <a:t>←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t; b &lt;= h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++ [h] ++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ort [b | b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Arial Unicode MS"/>
              </a:rPr>
              <a:t>←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t; b &gt; h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llustrates the concision of Haskel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A97136A-C5B1-4A6F-BD50-0114606527C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zy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language is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strict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f it requires all actual parameters to be fully evaluat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language is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nonstrict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f it does not have the strict requireme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Nonstrict languages are more efficient and allow some interesting capabilities –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infinite lis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azy evaluation - Only compute those values that are necessar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ositive numb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positives = [0..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etermining i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16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is a square numb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ember [] b = Fal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ember(a:x) b=(a == b)||member x b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quares = [n * n | 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Arial Unicode MS"/>
              </a:rPr>
              <a:t>←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[0..]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ember squares 16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CFCBFE8-4F49-47FA-B5DC-427FF3FD5E1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ember Revisited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member function could be written a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ember b [] = Fal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ember b (a:x)=(a == b) || member b 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owever, this would only work if the parameter to squares was a perfect square; if not, it will keep generating them forever. The following version will always work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member2 n (m:x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| m &lt; n = member2 n 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| m == n = Tr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|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otherwis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= Fal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A0255A0-A07B-45E8-B3C7-62B5CB0526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unctional For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higher-order function, or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functional form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is one that either takes functions as parameters or yields a function as its result, or both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#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ased on Ocaml, which is a descendant of ML and Haskel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damentally a functional language, but with imperative features and supports OO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as a full-featured IDE, an extensive library of utilities, and interoperates with other .NET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cludes tuples, lists, discriminated unions, records, and both mutable and immutable array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pports generic sequences, whose values can be created with generators and through iter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79A5267-B4CA-481E-9152-FC47DBA8C1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#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6858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quenc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= seq {1..4}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55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Generation of sequence values is lazy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y = seq {0..10000000}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t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0; 1; 2; 3;…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55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Default stepsize i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1</a:t>
            </a: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, but it can be any number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seq1 = seq {1..2..7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Set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eq1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1; 3; 5; 7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55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Iterators – not lazy for lists and array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cubes = seq {for i in 1..4 -&gt; (i, i * i * i)};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ts cubes to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[(1, 1); (2, 8); (3, 27); (4, 64)]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BA977E0-AA11-46AD-B8FE-946111ECF4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#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91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unc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named, defined wit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; if lambda expressions, defined wit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u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a b -&gt; a / b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difference between a name defined wit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a function without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extent of a function is defined by indent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f =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pi = 3.14159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twoPi = 2.0 * pi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7A9913E-B56F-42ED-9F11-3737F5A0455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#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6091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unctions (continued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a function is recursive, its definition must include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c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reserved wor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s in functions can be outscoped, which ends their sco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4 =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= x * 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= x * 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firs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n the body of the function creates a new version o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; this terminates the scope of the parameter; The secon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n the body creates another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terminating the scope of the seco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06B83EC-ABB8-4B62-BBBF-03704B0765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#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unctional Operat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ipeline (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&gt;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binary operator that sends the value of its left operand to the last parameter of the call (the right operan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myNums = [1; 2; 3; 4; 5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evensTimesFive = myNum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&gt; List.filter (fun n -&gt; n % 2 = 0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|&gt; List.map (fun n -&gt; 5 * n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76080" indent="-259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return value i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10; 20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76080" indent="-25992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;lkj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20F3BB6-28AB-47E4-AA1A-3D533406D24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#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unctional Operators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osition (&gt;&gt;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Builds a function that applies its left operand to a given parameter (a function) and then passes the result returned from the function to its right operand (another function)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   </a:t>
            </a: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The F# expression </a:t>
            </a:r>
            <a:r>
              <a:rPr b="0" lang="en-US" sz="1700" spc="-1" strike="noStrike">
                <a:solidFill>
                  <a:srgbClr val="666699"/>
                </a:solidFill>
                <a:latin typeface="Courier New"/>
                <a:ea typeface="Courier New"/>
              </a:rPr>
              <a:t>(f &gt;&gt; g) x</a:t>
            </a: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 is equivalent to the mathematical expression g(f(x))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urried Func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add a b = a + b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e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add5 = add 5;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ED6F180-37D5-404C-89CC-5F7CF3013F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#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y F# is Interesting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builds on previous functional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supports virtually all programming methodologies in widespread use toda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is the first functional language that is designed for interoperability with other widely used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t its release, it had an elaborate and well-developed IDE and library of utility softwar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5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1673181-C78B-47A7-BC06-6DD62008932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EA38101-A600-4DEA-9F67-1650B68A17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upport for Functional Programming in Primarily Imperative Languag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upport for functional programming is increasingly creeping into imperative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onymous functions (lambda expression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JavaScript: leave the name out of a function definition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C#: </a:t>
            </a:r>
            <a:r>
              <a:rPr b="0" lang="en-US" sz="1700" spc="-1" strike="noStrike">
                <a:solidFill>
                  <a:srgbClr val="666699"/>
                </a:solidFill>
                <a:latin typeface="Courier New"/>
                <a:ea typeface="Courier New"/>
              </a:rPr>
              <a:t>i =&gt; (i % 2) == 0</a:t>
            </a: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 (returns true or false depending on whether the parameter is even or odd)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99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Python: </a:t>
            </a:r>
            <a:r>
              <a:rPr b="1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lambda</a:t>
            </a:r>
            <a:r>
              <a:rPr b="0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 a, b : 2 * a  - b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upport for Functional Programming in Primarily Imperative Languages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858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ython supports the higher-order functions filter and map (often use lambda expressions as their first parameter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p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ambda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x : x ** 3, [2, 4, 6, 8]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Return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8, 64, 216, 512]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ython supports partial function applic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rom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operator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mpor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ad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5 = partial (add, 5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the first line imports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ad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s a function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5(15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5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9DFF69B-4CB1-4F0C-8154-5C43987C4F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Support for Functional Programming in Primarily Imperative Languages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uby Block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re effectively subprograms that are sent to methods, which makes the method a higher-order subprogra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block can be converted to a subprogram object wit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ambda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imes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ambda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{|a, b| a * b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 = times.(3, 4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(set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12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imes can be curried with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imes5 = times.curry.(5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: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5 = times5.(3)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(set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x5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to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15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6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71F7AED-D4FA-41CB-813C-F0BFA29630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3A94479-683F-44A1-8E5B-F7A1553FE3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Function Composi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functional form that takes two functions as parameters and yields a function whose value is the first actual parameter function applied to the application of the secon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m: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h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f ° 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ich means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h (x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f ( g ( x)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f (x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x + 2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and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g (x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3 * x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h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f ° 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yield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(3 * x)+ 2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419C8FC-BD0B-41BA-A21F-19FC91B14F9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mparing Functional and Imperative Languag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mperative Languag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fficient execu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lex semantic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lex syntax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currency is programmer design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unctional Languag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imple semantic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imple syntax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ess efficient execu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grams can automatically be made concurrent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224E9A4-E1F5-40D0-A1B2-524C4869A5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unctional programming languages use function application, conditional expressions, recursion, and functional forms to control program execu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isp began as a purely functional language and later included imperative featur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cheme is a relatively simple dialect of Lisp that uses static scoping exclusivel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ommon Lisp is a large Lisp-based languag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L is a static-scoped and strongly typed functional language that uses type inferenc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Haskell is a lazy functional language supporting infinite lists and set comprehension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# is a .NET functional language that also supports imperative and object-oriented programming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ome primarily imperative languages now incorporate some support for functional programming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urely functional languages have advantages over imperative alternatives, but still are not very widely us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6B50E44-05B9-4B0E-B618-C9226B5631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pply-to-al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functional form that takes a single function as a parameter and yields a list of values obtained by applying the given function to each element of a list of parame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m: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h(x) 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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x * x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(h, (2, 3, 4))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yields 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(4, 9, 16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8EA8CE9-0D47-427E-92B2-C5F469C676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Fundamentals of Functional Programming Languag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The objective of the design of a FPL is to mimic mathematical functions to the greatest extent possible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The basic process of computation is fundamentally different in a FPL than in an imperative language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 an imperative language, operations are done and the results are stored in variables for later u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anagement of variables is a constant concern and source of complexity for imperative programming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In an FPL, variables are not necessary, as is the case in mathematic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33399"/>
                </a:solidFill>
                <a:latin typeface="Lucida Sans Unicode"/>
              </a:rPr>
              <a:t>Referential Transparency </a:t>
            </a:r>
            <a:r>
              <a:rPr b="0" lang="en-US" sz="2200" spc="-1" strike="noStrike">
                <a:solidFill>
                  <a:srgbClr val="333399"/>
                </a:solidFill>
                <a:latin typeface="Lucida Sans Unicode"/>
              </a:rPr>
              <a:t>- In an FPL, the evaluation of a function always produces the same result given the same parameters</a:t>
            </a: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4:21Z</dcterms:modified>
  <cp:revision>89</cp:revision>
  <dc:subject/>
  <dc:title>Chapter 1</dc:title>
</cp:coreProperties>
</file>