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move the slid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D3F8-799E-4884-AF67-78D7A069C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0DBE-6888-49B9-9E90-23FB3F4E7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8A65D-BCF4-467F-94F7-97CBB025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6D54-0D6E-46B3-B3CA-7DBF7076A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440-3224-4499-9157-762CBB8F91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FCC5-A6DF-4F92-A306-89EEE672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A970-22DD-456D-A9E5-178CBAEAF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7560-1FA1-4645-925B-20563E4AE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4A1C1-E8BB-4D86-9072-963006784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AA46-AC96-40AF-A91B-E4DF2B33D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FF8-040E-4CD1-A17A-66C0AA92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10E6-0F3D-4392-AC85-8D258B432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4DB8-C836-4DC6-9CAF-0CC4E71AA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51C8-71C6-4B3E-BC79-B671A93093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76844-6E04-4A23-9C75-B265ECF31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1FE7-F1DE-4275-A02C-24F03D1F98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4B74-CD4C-4E3D-AC0E-B07919178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3137-C573-48FF-9517-13EE10DEA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B826E-4D21-4700-B3B9-A7481F3A2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9F5C-5F80-43CB-8AC8-F8524380D9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EC0B8-C075-4D80-B78D-714BC8A79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F498-F642-4691-82BE-0F45D59078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0813-94E7-487F-B0D9-D40528A2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FA54-F430-4723-8D62-8A964671D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0AFE8-B914-466D-9B61-DD39A50E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0D0B-BE25-4348-8357-A142FEA29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F0E-680F-42C9-A948-8D0ACBFD8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F433-DEBF-4EF5-A6EF-59EA46415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41AB-ACC1-43FF-833A-E8C0C888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B346-0D96-43E4-94EB-57E4844C8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A1B9-9149-4331-A5BE-A810F70C3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1B4D-052E-41CA-B50F-2E7A6FCF30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874C0-87C7-4488-A967-9B624E7B2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76042-4FCC-4D71-A70B-6A3C6FC3E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40C43-AA6C-4A8E-9BF0-DCDB9A32E0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2E778-F93B-4DBD-9B9A-9A766794A9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C02D3F-BA81-4127-A477-785010FF4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DA2147-B1CE-4791-91C7-1AB1D9B07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CBC2FB-A03C-4080-B937-B729B2DB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8B650-BEB3-4FC0-8A8C-38A37170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E24EF-A0CB-4422-98F9-5965590C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D3BE45-2398-49EE-8DDC-AA5B788C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8A9EC7-94F0-4ABF-AAD2-7FE052E3E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4ADB-FE43-4F47-B17B-7875C31DF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547B40-E6A5-4815-BB47-22F6F23E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F12CD2-0A1D-4637-929D-267EE907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B8BB7E-8420-40E9-9CA1-1BF05229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438B54-3C4F-47F5-9C35-58ECEB06A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2F2BC0-6D7A-419B-8598-90288A144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3CB7F-5087-439D-B9D1-B90492087D5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6600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22520" y="160020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091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6600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22520" y="3988440"/>
            <a:ext cx="2625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03D40-AC86-4A30-ACD7-A86E6B5F7F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8EB3C-0C53-4E47-B890-04735DE71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120" y="380520"/>
            <a:ext cx="815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F8441-F13C-4B5D-84B3-8BC76A8B1F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EE4FB-4050-4E88-A4C6-59A547297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98844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09A35-2077-4D04-9D80-9F220BDA7B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00200"/>
            <a:ext cx="39787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988440"/>
            <a:ext cx="8153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AA3A01-4230-45BB-8442-D2B60A157A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028243C-075C-4A68-A27B-479185A2AF4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6"/>
          <p:cNvSpPr/>
          <p:nvPr/>
        </p:nvSpPr>
        <p:spPr>
          <a:xfrm>
            <a:off x="609480" y="1523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609480" y="1219320"/>
            <a:ext cx="815364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Copyright © 2017 Pearson Education, Ltd.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B7300-66D0-409E-B91A-A3F48DA106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Lucida Sans Unicod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3657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Lucida Sans Unicode"/>
              </a:rPr>
              <a:t>Chapter 1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880" y="3276720"/>
            <a:ext cx="3657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Lucida Sans Unicode"/>
              </a:rPr>
              <a:t>Preliminar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281480" y="0"/>
            <a:ext cx="484812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EB69E10-75E8-4213-A4FB-B5C0677A7B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Criteria: Othe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ortabi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ease with which programs can be moved from one implementation to another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Genera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applicability to a wide range of applicatio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ell-definednes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completeness and precision of the language’s official defini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40C41D-12C4-404E-BEB2-DA429D7632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nfluences on Language Desig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uter Architectur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nguages are developed around the prevalent computer architecture, known as the </a:t>
            </a:r>
            <a:r>
              <a:rPr b="0" i="1" lang="en-US" sz="2400" spc="-1" strike="noStrike">
                <a:solidFill>
                  <a:srgbClr val="333399"/>
                </a:solidFill>
                <a:latin typeface="Lucida Sans Unicode"/>
              </a:rPr>
              <a:t>von Neumann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architectur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 Design Methodolog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w software development methodologies (e.g., object-oriented software development) led to new programming paradigms and by extension, new programming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C003A4A0-A789-48D7-BD19-B8B8A298C2F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puter Architecture Influenc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Well-known computer architecture: Von Neumann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mperative languages, most dominant, because of von Neumann comput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ata and programs stored in memor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emory is separate from CPU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structions and data are piped from memory to CPU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asis for imperative language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Variables model memory cells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Assignment statements model piping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-228600">
              <a:spcBef>
                <a:spcPts val="476"/>
              </a:spcBef>
              <a:buClr>
                <a:srgbClr val="666699"/>
              </a:buClr>
              <a:buFont typeface="Lucida Sans Unico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666699"/>
                </a:solidFill>
                <a:latin typeface="Lucida Sans Unicode"/>
              </a:rPr>
              <a:t>Iteration is efficient</a:t>
            </a: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lvl="2" marL="114300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666699"/>
              </a:solidFill>
              <a:latin typeface="Lucida Sans Unicode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BE5490C-32D1-4799-8527-93EC418AB70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von Neumann Architectur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178" name="Picture 4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708660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26B572E5-39DD-4CD9-9EA0-3A1CAB0BBA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von Neumann Architecture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etch-execute-cycle (on a von Neumann architecture computer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itialize the program coun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repeat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 forev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fetch the instruction pointed by the coun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increment the coun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decode the instru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Courier New"/>
              </a:rPr>
              <a:t>execute the instru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Courier New"/>
              </a:rPr>
              <a:t>end repea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268FE3C-7946-45D8-A415-647622EE4EE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Programming Methodologies Influenc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1950s and early 1960s: Simple applications; worry about machine efficienc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te 1960s: People efficiency became important; readability, better control structur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tructured programm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top-down design and step-wise refine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Late 1970s: Process-oriented to data-oriented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ata abstra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iddle 1980s: Object-oriented programm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Data abstraction + inheritance + polymorphis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B8AEA3D9-A104-49BD-9011-663FB4816F9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Categori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mperativ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entral features are variables, assignment statements, and iteratio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nclude languages that support object-oriented programming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nclude scripting language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nclude the visual language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amples: C, Java, Perl, JavaScript, Visual BASIC .NET, C++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Functional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Main means of making computations is by applying functions to given parameter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amples: LISP, Scheme, ML, F#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ogic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Rule-based (rules are specified in no particular order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ample: Prolog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arkup/programming hybrid 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Markup languages extended to support some programming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amples: JSTL, XSLT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3743557-83B5-4F2B-819A-7377D088996D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Design Trade-Off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iability vs. cost of execu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ample: Java demands all references to array elements be checked for proper indexing, which leads to increased execution cos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adability vs. writabi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ample: APL provides many powerful operators (and a large number of new symbols), allowing complex computations to be written in a compact program but at the cost of poor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adabilit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ritability (flexibility) vs. reliability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xample: C++ pointers are powerful and very flexible but are unreliabl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1052918-6239-48F2-8709-C6EE0B4FC6D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Implementation Method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il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grams are translated into machine language; includes JIT system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se: Large commercial applica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Pure Interpre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rograms are interpreted by another program known as an interpret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se: Small programs or when efficiency is not an issu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35880" indent="-3358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Hybrid Implementation Syste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compromise between compilers and pure interpreter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27920" indent="-28008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se: Small and medium systems when efficiency is not the first concer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32DD571E-A28D-4801-8FA3-726F8AAA652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yered View of Computer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1"/>
          <a:stretch/>
        </p:blipFill>
        <p:spPr>
          <a:xfrm>
            <a:off x="3962520" y="1295280"/>
            <a:ext cx="4728960" cy="50356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5"/>
          <p:cNvSpPr/>
          <p:nvPr/>
        </p:nvSpPr>
        <p:spPr>
          <a:xfrm>
            <a:off x="593640" y="1336680"/>
            <a:ext cx="321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69960" y="1413000"/>
            <a:ext cx="31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69960" y="1717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669960" y="1260360"/>
            <a:ext cx="3216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Sans Unicode"/>
              </a:rPr>
              <a:t>The operating system and language implementation are layered ov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Lucida Sans Unicode"/>
              </a:rPr>
              <a:t>machine interface of a compu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E1532891-2D01-4B03-80C3-C1C3F9914DE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hapter 1 Topic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asons for Studying Concepts of Programming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ming Domain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 Evaluation Criteria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fluences on Language Desig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 Categori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 Design Trade-Off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lementation Method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533520" indent="-53352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ming Environmen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7A5136F-2F1F-482B-AB81-FA88220CFED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Compil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ranslate high-level program (source language) into machine code (machine language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low translation, fast execu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Compilation process has several phases: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lexical analysis: converts characters in the source program into lexical uni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yntax analysis: transforms lexical units into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parse trees 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hich represent the syntactic structure of program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emantics analysis: generate intermediate cod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code generation: machine code is generated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310EA53-F627-4115-A5D1-68F6F121762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647712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The Compilatio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4027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EC5B20F-367C-46B3-821F-55EFA17F6A7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Additional Compilation Terminologie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Load module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 (executable image): the user and system code togeth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Linking and loading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process of collecting system program units and linking them to a user program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1A6C2C0-E75A-4C26-A940-B162F85BE5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Von Neumann Bottleneck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nnection speed between a computer’s memory and its processor determines the speed of a compute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ogram instructions often can be executed much faster than the speed of the connection; the connection speed thus results in a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bottleneck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Known as the </a:t>
            </a:r>
            <a:r>
              <a:rPr b="0" i="1" lang="en-US" sz="2800" spc="-1" strike="noStrike">
                <a:solidFill>
                  <a:srgbClr val="333399"/>
                </a:solidFill>
                <a:latin typeface="Lucida Sans Unicode"/>
              </a:rPr>
              <a:t>von Neumann bottleneck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; it is the primary limiting factor in the speed of compu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863DE40-AD50-44EE-8144-33551E61F9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ure Interpretation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 transl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asier implementation of programs (run-time errors can easily and immediately be displayed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lower execution (10 to 100 times slower than compiled programs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Often requires more spac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ow rare for traditional high-level languag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Significant comeback with some Web scripting languages (e.g., JavaScript, PHP)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D7E23FD-DB7D-4BD9-AD9D-401A5848997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ure Interpretatio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3276720" y="1371600"/>
            <a:ext cx="373212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CD7567F-3D7B-4DF3-B741-7A14FFD23BD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ybrid Implementation System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compromise between compilers and pure interpret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high-level language program is translated to an intermediate language that allows easy interpre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Faster than pure interpre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ampl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Perl programs are partially compiled to detect errors before interpreta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itial implementations of Java were hybrid; the intermediate form,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byte cod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, provides portability to any machine that has a byte code interpreter and a run-time system (together, these are called </a:t>
            </a:r>
            <a:r>
              <a:rPr b="0" i="1" lang="en-US" sz="2000" spc="-1" strike="noStrike">
                <a:solidFill>
                  <a:srgbClr val="333399"/>
                </a:solidFill>
                <a:latin typeface="Lucida Sans Unicode"/>
              </a:rPr>
              <a:t>Java Virtual Machine</a:t>
            </a: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)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2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9B78AD3-9364-470E-904C-8D81D36E2DE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001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Hybrid Implementation Proces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4495680" y="1295280"/>
            <a:ext cx="181944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44716E5A-B455-449F-AD2E-EC83D9B3996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Lucida Sans Unicode"/>
              </a:rPr>
              <a:t>Just-in-Time Implementation Systems</a:t>
            </a:r>
            <a:endParaRPr b="0" lang="en-US" sz="32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itially translate programs to an intermediate language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n compile the intermediate language of the subprograms into machine code when they are called 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chine code version is kept for subsequent call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JIT systems are widely used for Java program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.NET languages are implemented with a JIT system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In essence, JIT systems are delayed compiler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C2751D0-B89B-4D37-B377-A461619CBCD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eprocessor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Preprocessor macros (instructions) are commonly used to specify that code from another file is to be include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preprocessor processes a program immediately before the program is compiled to expand embedded  preprocessor macro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A well-known example: C preprocessor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pands </a:t>
            </a:r>
            <a:r>
              <a:rPr b="0" lang="en-US" sz="2400" spc="-1" strike="noStrike">
                <a:solidFill>
                  <a:srgbClr val="333399"/>
                </a:solidFill>
                <a:latin typeface="Courier New"/>
              </a:rPr>
              <a:t>#include, #define</a:t>
            </a: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, and similar macro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8F31DDF1-B42A-47F3-BE03-6F8CC1B0CEE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Reasons for Studying Concepts of Programming Language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creased ability to express idea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mproved background for choosing appropriate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Increased ability to learn new language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tter understanding of significance of implementatio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Better use of languages that are already known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Overall advancement of computing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FC306D3-D505-4468-89BC-B90F14AA5033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gramming Environment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 collection of tools used in software developmen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UNIX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n older operating system and tool colle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Nowadays often used through a GUI (e.g., CDE, KDE, or GNOME) that runs on top of UNIX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icrosoft Visual Studio.NET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 large, complex visual environmen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Used to build Web applications and non-Web applications in any .NET languag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NetBean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lated to Visual Studio .NET, except for applications in Java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7BFC45D8-FD95-4F2F-911D-8168E9A7A06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Summar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study of programming languages is valuable for a number of reasons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Increase our capacity to use different construct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Enable us to choose languages more intelligentl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Makes learning new languages easier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ost important criteria for evaluating programming languages include: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Readability, writability, reliability, cost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Major influences on language design have been machine architecture and software development methodologies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he major methods of implementing programming languages are: compilation, pure interpretation, and hybrid implementation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F6FF3A3-848E-4B86-922C-2CD4ABDBD77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Programming Domains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cientific applica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Large numbers of floating point computations; use of array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Fortra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Business applications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oduce reports, use decimal numbers and character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OBOL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Artificial intelligenc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Symbols rather than numbers manipulated; use of linked list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LISP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ystems programming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Need efficiency because of continuous use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C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Web Software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clectic collection of languages: markup (e.g., HTML), scripting (e.g., PHP), general-purpose (e.g., Java)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98DB3E88-5306-4BF1-98CA-B47FA4F267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Language Evaluation Criteria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Readabilit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ease with which programs can be read and understood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Writabilit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ease with which a language can be used to create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Reliability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conformance to specifications (i.e., performs to its specifications) 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Lucida Sans Unicode"/>
              </a:rPr>
              <a:t>Cost</a:t>
            </a: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: the ultimate total cost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1C4AA66B-917B-4B03-97DA-C4B228BE413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Criteria: Readabilit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Overall simplicity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manageable set of features and construct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Minimal feature multiplicity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Minimal operator overloading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Orthogonality 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 relatively small set of primitive constructs can be combined in a relatively small number of way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Every possible combination is legal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Data type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Adequate predefined data type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Syntax considerat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Identifier forms: flexible composition 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Special words and methods of forming compound statement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Lucida Sans Unicode"/>
              </a:rPr>
              <a:t>Form and meaning: self-descriptive constructs, meaningful keywords</a:t>
            </a:r>
            <a:endParaRPr b="0" lang="en-US" sz="16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A48921A9-96C0-402F-BE8A-31DCE6E2F5C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Criteria: Writabilit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implicity and orthogonality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Few constructs, a small number of primitives, a small set of rules for combining them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Lucida Sans Unicode"/>
              </a:rPr>
              <a:t>Support for abstraction</a:t>
            </a:r>
            <a:endParaRPr b="0" lang="en-US" sz="20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The ability to define and use complex structures  or operations in ways that allow details to be ignored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Expressivity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 set of relatively convenient ways of specifying operat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Strength and number of operators and predefined function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55A97D8F-E9FD-46C8-9E20-7C1088EE1C0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Criteria: Reliability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Type check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Testing for type error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Exception handl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Intercept run-time errors and take corrective measures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Aliasing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Presence of two or more distinct referencing methods for the same memory location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Lucida Sans Unicode"/>
              </a:rPr>
              <a:t>Readability and writability</a:t>
            </a:r>
            <a:endParaRPr b="0" lang="en-US" sz="24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Lucida Sans Unicode"/>
              </a:rPr>
              <a:t>A language that does not support “natural” ways of expressing an algorithm will require the use  of “unnatural” approaches, and hence reduced reliability</a:t>
            </a: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ooter Placeholder 3"/>
          <p:cNvSpPr/>
          <p:nvPr/>
        </p:nvSpPr>
        <p:spPr>
          <a:xfrm>
            <a:off x="6858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2017 Pearson Education, Ltd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Slide Number Placeholder 4"/>
          <p:cNvSpPr/>
          <p:nvPr/>
        </p:nvSpPr>
        <p:spPr>
          <a:xfrm>
            <a:off x="69343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-</a:t>
            </a:r>
            <a:fld id="{F74C8887-7209-4845-9430-1712AFD719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Lucida Sans Unicode"/>
              </a:rPr>
              <a:t>Evaluation Criteria: Cost</a:t>
            </a:r>
            <a:endParaRPr b="0" lang="en-US" sz="3600" spc="-1" strike="noStrike">
              <a:solidFill>
                <a:srgbClr val="666699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Training programmers to use the language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Writing programs (closeness to particular applications)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Compiling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Executing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Language implementation system: availability of free compiler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Reliability: poor reliability leads to high cost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Lucida Sans Unicode"/>
              </a:rPr>
              <a:t>Maintaining programs</a:t>
            </a:r>
            <a:endParaRPr b="0" lang="en-US" sz="2800" spc="-1" strike="noStrike">
              <a:solidFill>
                <a:srgbClr val="333399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1T12:29:19Z</dcterms:created>
  <dc:creator>David Garrett</dc:creator>
  <dc:description/>
  <dc:language>en-US</dc:language>
  <cp:lastModifiedBy>Binod</cp:lastModifiedBy>
  <dcterms:modified xsi:type="dcterms:W3CDTF">2016-02-03T13:02:30Z</dcterms:modified>
  <cp:revision>98</cp:revision>
  <dc:subject/>
  <dc:title>Chapter 1</dc:title>
</cp:coreProperties>
</file>