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Click to move the slide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F02D0-579E-4C3B-A4AF-3274C1947A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17E63-15F3-4BE2-A7AE-CA995B8F8B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D0A6F-9368-43D3-918D-7F08E2016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2DC9B-9807-4AB8-A372-D8D4FD425A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9385-3029-47B6-8892-F97CE627AB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137F6-639E-4CF9-B1F9-727CC08309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0E29E-09B8-48AE-88B9-244D391DD1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DDCD4-6ED0-493B-9873-C7F3BFA9E5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5116B-B4D4-4150-A9C1-6BCAD4A777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DB3BA-2E60-448F-9DAC-14B83C815A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850D3-17E1-4608-8544-C2FF70B0E7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938DD-A894-4E75-BD11-888F59A0CF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0A27D-346B-4260-A16A-6DA0AB1F01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585A4-54D2-4C7E-A0C5-3C14DD3B72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EBFB6-0ACF-406F-8C59-8CCD9AD6E0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92D8E-1301-497E-B443-572315D49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ED2BE-08DE-4EC3-9A0E-FD3C4997FD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708D5-9410-4349-BA74-DA18A7FA8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5A9D4-BBA7-45C3-805E-9B6677937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EA3E-3BFF-4407-B5F1-EE62340ACA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1D168-BFDD-4C4C-9DDE-A8D4020F4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01A46-9A03-43D9-B482-6E6926D20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F6155-CDC6-41EC-A33E-2B080D6E8A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87E9D-C50C-4AB9-91C0-87744EB5AF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25887-9F50-4B88-90C0-C53341C457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D5C64-61A3-4F78-8604-17D6A32D9E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042A3-9DBA-4FE1-A575-2D7969DD51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D2C25-75B7-4716-96DE-489543F6D8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34FB8-4507-449E-BAA1-1A07E574E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B1533-D8CB-4625-935D-6DA508449D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33292-6FC8-4139-91E8-8EC5C80400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DA784-5FA6-4A45-B800-5025A881B7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08E20-8EA7-424B-BFD1-02BAB3B9C5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120" y="398844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F372B-A87D-4831-9212-BA0AE8F80E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12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8728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F6AC2-E562-49EC-9072-EDAFDE6131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6000" y="16002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2520" y="16002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120" y="39884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6000" y="39884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2520" y="39884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C392E-1864-43F4-8EC8-2DF3DD429B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120" y="380520"/>
            <a:ext cx="8153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12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91B3D-8EFB-4053-BD14-6AF6BE8C76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8728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120" y="398844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120" y="398844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12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8728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66000" y="16002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22520" y="16002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120" y="39884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66000" y="39884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22520" y="39884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314FC-BE03-4CB5-B959-131DB4965E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2F4B6-9151-4174-828C-081E0FE272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BC127-BA9B-4048-9EF3-44B31087FC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120" y="380520"/>
            <a:ext cx="8153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9295F-9339-4B8F-A6BD-BF9A4D136A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12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1B35C-B677-4A2B-9B92-AF2133B870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8728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D4AC9-8474-4DF9-BB61-94C672D6A4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120" y="398844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E148B-0A46-4318-9CE7-2AC6E616CC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Click to edit the title text format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2" marL="1143000" indent="-228600">
              <a:spcBef>
                <a:spcPts val="700"/>
              </a:spcBef>
              <a:buClr>
                <a:srgbClr val="66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A1669E71-9401-44D3-A9D0-DAB88FB876E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609480" y="1523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>
            <a:off x="609480" y="1219320"/>
            <a:ext cx="815364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6"/>
          <p:cNvSpPr/>
          <p:nvPr/>
        </p:nvSpPr>
        <p:spPr>
          <a:xfrm>
            <a:off x="8385120" y="617220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2"/>
          <a:stretch/>
        </p:blipFill>
        <p:spPr>
          <a:xfrm>
            <a:off x="4281480" y="0"/>
            <a:ext cx="4848120" cy="6031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Click to edit the title text format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2" marL="1143000" indent="-228600">
              <a:spcBef>
                <a:spcPts val="700"/>
              </a:spcBef>
              <a:buClr>
                <a:srgbClr val="66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Lucida Sans Unicode"/>
              </a:rPr>
              <a:t>Chapter 7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80880" y="3276720"/>
            <a:ext cx="3657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Lucida Sans Unicode"/>
              </a:rPr>
              <a:t>Expressions and </a:t>
            </a:r>
            <a:br>
              <a:rPr sz="2800"/>
            </a:br>
            <a:r>
              <a:rPr b="0" lang="en-US" sz="2800" spc="-1" strike="noStrike">
                <a:solidFill>
                  <a:srgbClr val="cc3300"/>
                </a:solidFill>
                <a:latin typeface="Lucida Sans Unicode"/>
              </a:rPr>
              <a:t>Assignment Statement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06446C82-E217-4755-BAB2-EBB49866167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Lucida Sans Unicode"/>
              </a:rPr>
              <a:t>Arithmetic Expressions: Conditional Expressions</a:t>
            </a:r>
            <a:endParaRPr b="0" lang="en-US" sz="32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onditional Expression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C-based languages (e.g., C, C++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n example: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average = (count == 0)? 0 : sum / count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Evaluates as if written as follows: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if (count == 0) 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average = 0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else 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average = sum /count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423F4101-993F-46AC-B494-30B6E28FFF6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Lucida Sans Unicode"/>
              </a:rPr>
              <a:t>Arithmetic Expressions: Operand Evaluation Order</a:t>
            </a:r>
            <a:endParaRPr b="0" lang="en-US" sz="32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Operand evaluation order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914400" indent="-457200">
              <a:spcBef>
                <a:spcPts val="601"/>
              </a:spcBef>
              <a:buClr>
                <a:srgbClr val="333399"/>
              </a:buClr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Variables: fetch the value from memory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914400" indent="-457200">
              <a:spcBef>
                <a:spcPts val="601"/>
              </a:spcBef>
              <a:buClr>
                <a:srgbClr val="333399"/>
              </a:buClr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Constants: sometimes a fetch from memory; sometimes the constant is in the machine language instruction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914400" indent="-457200">
              <a:spcBef>
                <a:spcPts val="601"/>
              </a:spcBef>
              <a:buClr>
                <a:srgbClr val="333399"/>
              </a:buClr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Parenthesized expressions: evaluate all operands and operators first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914400" indent="-457200">
              <a:spcBef>
                <a:spcPts val="601"/>
              </a:spcBef>
              <a:buClr>
                <a:srgbClr val="333399"/>
              </a:buClr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he most interesting case is when an operand is a function call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CC18F557-1378-4F7A-A301-EE7729C5BF6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Lucida Sans Unicode"/>
              </a:rPr>
              <a:t>Arithmetic Expressions: Potentials for Side Effects</a:t>
            </a:r>
            <a:endParaRPr b="0" lang="en-US" sz="32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Lucida Sans Unicode"/>
              </a:rPr>
              <a:t>Functional side effects: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when a function changes a two-way parameter or a non-local variable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Problem with functional side effects: 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When a function referenced in an expression alters another operand of the expression; e.g., for a parameter change: 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a = 10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/* assume that fun changes its parameter */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b = a + fun(&amp;a);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50100724-84E6-433C-89CA-F33BC64289E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Functional Side Effect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wo possible solutions to the problem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914400" indent="-457200">
              <a:spcBef>
                <a:spcPts val="499"/>
              </a:spcBef>
              <a:buClr>
                <a:srgbClr val="333399"/>
              </a:buClr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Write the language definition to disallow functional side effects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2" marL="1314360" indent="-399960">
              <a:spcBef>
                <a:spcPts val="476"/>
              </a:spcBef>
              <a:buClr>
                <a:srgbClr val="666699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6699"/>
                </a:solidFill>
                <a:latin typeface="Lucida Sans Unicode"/>
              </a:rPr>
              <a:t>No two-way parameters in functions</a:t>
            </a:r>
            <a:endParaRPr b="0" lang="en-US" sz="1900" spc="-1" strike="noStrike">
              <a:solidFill>
                <a:srgbClr val="666699"/>
              </a:solidFill>
              <a:latin typeface="Lucida Sans Unicode"/>
            </a:endParaRPr>
          </a:p>
          <a:p>
            <a:pPr lvl="2" marL="1314360" indent="-399960">
              <a:spcBef>
                <a:spcPts val="476"/>
              </a:spcBef>
              <a:buClr>
                <a:srgbClr val="666699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6699"/>
                </a:solidFill>
                <a:latin typeface="Lucida Sans Unicode"/>
              </a:rPr>
              <a:t>No non-local references in functions</a:t>
            </a:r>
            <a:endParaRPr b="0" lang="en-US" sz="1900" spc="-1" strike="noStrike">
              <a:solidFill>
                <a:srgbClr val="666699"/>
              </a:solidFill>
              <a:latin typeface="Lucida Sans Unicode"/>
            </a:endParaRPr>
          </a:p>
          <a:p>
            <a:pPr lvl="2" marL="1314360" indent="-399960">
              <a:spcBef>
                <a:spcPts val="476"/>
              </a:spcBef>
              <a:buClr>
                <a:srgbClr val="666699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666699"/>
                </a:solidFill>
                <a:latin typeface="Lucida Sans Unicode"/>
              </a:rPr>
              <a:t>Advantage:</a:t>
            </a:r>
            <a:r>
              <a:rPr b="0" lang="en-US" sz="1900" spc="-1" strike="noStrike">
                <a:solidFill>
                  <a:srgbClr val="666699"/>
                </a:solidFill>
                <a:latin typeface="Lucida Sans Unicode"/>
              </a:rPr>
              <a:t> it works!</a:t>
            </a:r>
            <a:endParaRPr b="0" lang="en-US" sz="1900" spc="-1" strike="noStrike">
              <a:solidFill>
                <a:srgbClr val="666699"/>
              </a:solidFill>
              <a:latin typeface="Lucida Sans Unicode"/>
            </a:endParaRPr>
          </a:p>
          <a:p>
            <a:pPr lvl="2" marL="1314360" indent="-399960">
              <a:spcBef>
                <a:spcPts val="476"/>
              </a:spcBef>
              <a:buClr>
                <a:srgbClr val="666699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666699"/>
                </a:solidFill>
                <a:latin typeface="Lucida Sans Unicode"/>
              </a:rPr>
              <a:t>Disadvantage:</a:t>
            </a:r>
            <a:r>
              <a:rPr b="0" lang="en-US" sz="1900" spc="-1" strike="noStrike">
                <a:solidFill>
                  <a:srgbClr val="666699"/>
                </a:solidFill>
                <a:latin typeface="Lucida Sans Unicode"/>
              </a:rPr>
              <a:t> inflexibility of one-way parameters and lack of non-local references</a:t>
            </a:r>
            <a:endParaRPr b="0" lang="en-US" sz="1900" spc="-1" strike="noStrike">
              <a:solidFill>
                <a:srgbClr val="666699"/>
              </a:solidFill>
              <a:latin typeface="Lucida Sans Unicode"/>
            </a:endParaRPr>
          </a:p>
          <a:p>
            <a:pPr lvl="1" marL="914400" indent="-457200">
              <a:spcBef>
                <a:spcPts val="499"/>
              </a:spcBef>
              <a:buClr>
                <a:srgbClr val="333399"/>
              </a:buClr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Write the language definition to demand that operand evaluation order be fixed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2" marL="1314360" indent="-399960">
              <a:spcBef>
                <a:spcPts val="476"/>
              </a:spcBef>
              <a:buClr>
                <a:srgbClr val="666699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666699"/>
                </a:solidFill>
                <a:latin typeface="Lucida Sans Unicode"/>
              </a:rPr>
              <a:t>Disadvantage</a:t>
            </a:r>
            <a:r>
              <a:rPr b="0" lang="en-US" sz="1900" spc="-1" strike="noStrike">
                <a:solidFill>
                  <a:srgbClr val="666699"/>
                </a:solidFill>
                <a:latin typeface="Lucida Sans Unicode"/>
              </a:rPr>
              <a:t>: limits some compiler optimizations</a:t>
            </a:r>
            <a:endParaRPr b="0" lang="en-US" sz="1900" spc="-1" strike="noStrike">
              <a:solidFill>
                <a:srgbClr val="666699"/>
              </a:solidFill>
              <a:latin typeface="Lucida Sans Unicode"/>
            </a:endParaRPr>
          </a:p>
          <a:p>
            <a:pPr lvl="2" marL="1314360" indent="-399960">
              <a:spcBef>
                <a:spcPts val="476"/>
              </a:spcBef>
              <a:buClr>
                <a:srgbClr val="666699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6699"/>
                </a:solidFill>
                <a:latin typeface="Lucida Sans Unicode"/>
              </a:rPr>
              <a:t>Java requires that operands appear to be evaluated in left-to-right order</a:t>
            </a:r>
            <a:endParaRPr b="0" lang="en-US" sz="1900" spc="-1" strike="noStrike">
              <a:solidFill>
                <a:srgbClr val="6666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 program has the property of </a:t>
            </a: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referential transparency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if any two expressions in the program that have the same value can be substituted for one another anywhere in the program, without affecting the action of the program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result1 = (fun(a) + b) / (fun(a) – c)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temp = fun(a)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result2 = (temp + b) / (temp – c)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If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fun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 has no side effects,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result1 = result2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Otherwise, not, and referential transparency is violated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Referential Transparency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41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98249036-8578-42FB-89B7-A41AFD74E59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dvantage of referential transparency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20720" indent="-27720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Semantics of a program is much easier to understand if it has referential transparency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Because they do not have variables, programs in pure functional languages are referentially transparent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20720" indent="-27720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Functions cannot have state, which would be stored in local variable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20720" indent="-27720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If a function uses an outside value, it must be a constant (there are no variables). So, the value of a function depends only on its parameter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Referential Transparency </a:t>
            </a:r>
            <a:r>
              <a:rPr b="0" lang="en-US" sz="2800" spc="-1" strike="noStrike">
                <a:solidFill>
                  <a:srgbClr val="666699"/>
                </a:solidFill>
                <a:latin typeface="Lucida Sans Unicode"/>
              </a:rPr>
              <a:t>(continued)</a:t>
            </a:r>
            <a:endParaRPr b="0" lang="en-US" sz="28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45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731FE541-7725-4F6E-AEDB-23F28774A9C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BBD3CAA4-89DE-421E-A3C7-3B9AACD792F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Overloaded Operator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Use of an operator for more than one purpose is called </a:t>
            </a: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operator overloading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ome are common (e.g., + for 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int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and 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float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)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ome are potential trouble (e.g., </a:t>
            </a:r>
            <a:r>
              <a:rPr b="0" lang="en-US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*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 in C and C++)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Loss of compiler error detection (omission of an operand should be a detectable error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Some loss of readability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EDD58945-6FC7-40CE-820A-88C63C59ED2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Overloaded Operators (continued)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++, C#, and F# allow user-defined overloaded operator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When sensibly used, such operators can be an aid to readability (avoid method calls, expressions appear natural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Potential problems: 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2" marL="1143000" indent="-228600">
              <a:spcBef>
                <a:spcPts val="524"/>
              </a:spcBef>
              <a:buClr>
                <a:srgbClr val="666699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6699"/>
                </a:solidFill>
                <a:latin typeface="Lucida Sans Unicode"/>
              </a:rPr>
              <a:t>Users can define nonsense operations</a:t>
            </a:r>
            <a:endParaRPr b="0" lang="en-US" sz="2100" spc="-1" strike="noStrike">
              <a:solidFill>
                <a:srgbClr val="666699"/>
              </a:solidFill>
              <a:latin typeface="Lucida Sans Unicode"/>
            </a:endParaRPr>
          </a:p>
          <a:p>
            <a:pPr lvl="2" marL="1143000" indent="-228600">
              <a:spcBef>
                <a:spcPts val="524"/>
              </a:spcBef>
              <a:buClr>
                <a:srgbClr val="666699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6699"/>
                </a:solidFill>
                <a:latin typeface="Lucida Sans Unicode"/>
              </a:rPr>
              <a:t>Readability may suffer, even when the operators make sense</a:t>
            </a:r>
            <a:endParaRPr b="0" lang="en-US" sz="2100" spc="-1" strike="noStrike">
              <a:solidFill>
                <a:srgbClr val="666699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EDA66C4E-1626-43BE-9C1A-5A0BBCF8535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Type Conversion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 </a:t>
            </a: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narrowing conversion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is one that converts an object to a type that cannot include all of the values of the original type e.g.,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float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to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t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 </a:t>
            </a: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widening conversion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is one in which an object is converted to a type that can include at least approximations to all of the values of the original type                           e.g.,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t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to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float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6E0F37D2-52CB-4B9E-9A00-18F257CB0EE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Type Conversions: Mixed Mode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 </a:t>
            </a:r>
            <a:r>
              <a:rPr b="0" i="1" lang="en-US" sz="2400" spc="-1" strike="noStrike">
                <a:solidFill>
                  <a:srgbClr val="333399"/>
                </a:solidFill>
                <a:latin typeface="Lucida Sans Unicode"/>
              </a:rPr>
              <a:t>mixed-mode expression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is one that has operands of different type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 </a:t>
            </a:r>
            <a:r>
              <a:rPr b="0" i="1" lang="en-US" sz="2400" spc="-1" strike="noStrike">
                <a:solidFill>
                  <a:srgbClr val="333399"/>
                </a:solidFill>
                <a:latin typeface="Lucida Sans Unicode"/>
              </a:rPr>
              <a:t>coercion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is an implicit type conversion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Disadvantage of coercions: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They decrease in the type error detection ability of the compiler 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In most languages, all numeric types are coerced in expressions, using widening conversion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In ML and F#, there are no coercions in expression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2CB53FA7-7793-47C6-BBD0-F869F3983CA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Chapter 7 Topic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Introduction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rithmetic Expression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Overloaded Operator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ype Conversion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Relational and Boolean Expression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hort-Circuit Evaluation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ssignment Statement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Mixed-Mode Assignment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5DAF010E-8304-47BB-8F2C-E47B4BF1E5F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Explicit Type Conversion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alled </a:t>
            </a: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casting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in C-based language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Example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C: (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)angle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F#: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float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(sum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Lucida Sans Unicode"/>
              </a:rPr>
              <a:t>Note that F#’s syntax is similar to that of function call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1EE475B5-BE5B-48FC-89D7-EA67FB50420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Lucida Sans Unicode"/>
              </a:rPr>
              <a:t>Errors in Expressions</a:t>
            </a:r>
            <a:endParaRPr b="0" lang="en-US" sz="32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ause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Inherent limitations of arithmetic                         e.g., division by zero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Limitations of computer arithmetic                     e.g. overflow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Often ignored by the run-time system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5177CF39-913A-45E3-BF9D-34866CF2316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Relational and Boolean Expression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1536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Relational Expression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35480" indent="-28296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Use relational operators and operands of various type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35480" indent="-28296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Evaluate to some Boolean representation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35480" indent="-28296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Operator symbols used vary somewhat among languages (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!=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,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/=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,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~=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,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.NE.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,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&lt;&gt;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,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#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-3394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JavaScript and PHP have two additional relational operator,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===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and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!==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- Similar to their cousins,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==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and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!=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, except that they do not coerce their operand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35480" indent="-28296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Ruby uses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==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for equality relation operator that uses coercions and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eql?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for those that do not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18026144-38F7-46F3-B284-C0AF0CAA5A0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Lucida Sans Unicode"/>
              </a:rPr>
              <a:t>Relational and Boolean Expressions</a:t>
            </a:r>
            <a:endParaRPr b="0" lang="en-US" sz="32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1536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Boolean Expression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Operands are Boolean and the result is Boolean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Example operator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89 has no Boolean type--it uses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int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type with 0 for false and nonzero for true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One odd characteristic of C’s expressions:       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a &lt; b &lt; c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 is a legal expression, but the result is not what you might expect: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Left operator is evaluated, producing 0 or 1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he evaluation result is then compared with the third operand (i.e.,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c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CE0DD2DD-0ACF-4707-99BA-85C449826B0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Short Circuit Evaluation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n expression in which the result is determined without evaluating all of the operands and/or operator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Example: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(13 * a) * (b / 13 – 1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If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a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is zero, there is no need to evaluate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(b  /13 - 1) 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Problem with non-short-circuit evaluation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index = 0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while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(index &lt;= length) &amp;&amp; (LIST[index] != value)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index++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When</a:t>
            </a:r>
            <a:r>
              <a:rPr b="1" lang="en-US" sz="2000" spc="-1" strike="noStrike">
                <a:solidFill>
                  <a:srgbClr val="333399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index=length, LIST[index]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 will cause an indexing problem (assuming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LIST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 is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length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- 1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 long)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ED381E9E-5AA6-4275-8DB0-ADFF71F7619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Short Circuit Evaluation (continued)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C, C++, and Java: use short-circuit evaluation for the usual Boolean operators (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&amp;&amp;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and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||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), but also provide bitwise Boolean operators that are not short circuit (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&amp;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and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|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ll logic operators in Ruby, Perl, ML, F#, and Python are short-circuit evaluated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Short-circuit evaluation exposes the potential problem of side effects in expressions                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e.g.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(a &gt; b) || (b++ / 3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5CC03FBE-71D7-4FCC-9065-5F836D09E5B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Assignment Statement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he general syntax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&lt;target_var&gt; &lt;assign_operator&gt; &lt;expression&gt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he assignment operator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=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 Fortran, BASIC, the C-based language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:=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Ada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=  can be bad when it is overloaded for the relational operator for equality (that’s why the C-based languages use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==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as the relational operator)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43CBD4AD-F4B7-45E9-90E0-619342356E4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Lucida Sans Unicode"/>
              </a:rPr>
              <a:t>Assignment Statements: Conditional Targets</a:t>
            </a:r>
            <a:endParaRPr b="0" lang="en-US" sz="32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onditional targets (Perl)</a:t>
            </a:r>
            <a:br>
              <a:rPr sz="2800"/>
            </a:b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($flag ? $total : $subtotal) = 0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Which is equivalent to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if ($flag){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$total = 0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$subtotal = 0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405B4167-7F43-4838-A6F7-0A779ED4308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Lucida Sans Unicode"/>
              </a:rPr>
              <a:t>Assignment Statements: Compound Assignment Operators</a:t>
            </a:r>
            <a:endParaRPr b="0" lang="en-US" sz="32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 shorthand method of specifying a commonly needed form of assignment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Introduced in ALGOL; adopted by C and the C-based languae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Example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2" marL="1143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66699"/>
              </a:solidFill>
              <a:latin typeface="Lucida Sans Unicode"/>
            </a:endParaRPr>
          </a:p>
          <a:p>
            <a:pPr lvl="2" marL="1143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6699"/>
                </a:solidFill>
                <a:latin typeface="Courier New"/>
                <a:ea typeface="Courier New"/>
              </a:rPr>
              <a:t>a = a + b</a:t>
            </a:r>
            <a:endParaRPr b="0" lang="en-US" sz="2100" spc="-1" strike="noStrike">
              <a:solidFill>
                <a:srgbClr val="666699"/>
              </a:solidFill>
              <a:latin typeface="Lucida Sans Unicode"/>
            </a:endParaRPr>
          </a:p>
          <a:p>
            <a:pPr lvl="2" marL="1143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66699"/>
              </a:solidFill>
              <a:latin typeface="Lucida Sans Unicode"/>
            </a:endParaRPr>
          </a:p>
          <a:p>
            <a:pPr lvl="2" marL="1143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6699"/>
                </a:solidFill>
                <a:latin typeface="Lucida Sans Unicode"/>
              </a:rPr>
              <a:t>can be written as</a:t>
            </a:r>
            <a:endParaRPr b="0" lang="en-US" sz="2100" spc="-1" strike="noStrike">
              <a:solidFill>
                <a:srgbClr val="666699"/>
              </a:solidFill>
              <a:latin typeface="Lucida Sans Unicode"/>
            </a:endParaRPr>
          </a:p>
          <a:p>
            <a:pPr lvl="2" marL="1143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66699"/>
              </a:solidFill>
              <a:latin typeface="Lucida Sans Unicode"/>
            </a:endParaRPr>
          </a:p>
          <a:p>
            <a:pPr lvl="2" marL="11430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6699"/>
                </a:solidFill>
                <a:latin typeface="Courier New"/>
                <a:ea typeface="Courier New"/>
              </a:rPr>
              <a:t>a += b</a:t>
            </a:r>
            <a:endParaRPr b="0" lang="en-US" sz="2100" spc="-1" strike="noStrike">
              <a:solidFill>
                <a:srgbClr val="6666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EB40654F-97B0-4855-B1BF-7207DE95FC0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Lucida Sans Unicode"/>
              </a:rPr>
              <a:t>Assignment Statements: Unary Assignment Operators</a:t>
            </a:r>
            <a:endParaRPr b="0" lang="en-US" sz="32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Unary assignment operators in C-based languages combine increment and decrement operations with assignment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Example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sum = ++count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(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count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incremented, then assigned to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sum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sum = count++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(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count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assigned to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sum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, then incremented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count++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(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count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incremented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-count++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(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count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incremented then negated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06312FF1-73FC-459D-814E-7700B6FB9FF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Introduction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Expressions are the fundamental means of specifying computations in a programming language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o understand expression evaluation, need to be familiar with the orders of operator and operand evaluation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Essence of imperative languages is dominant role of assignment statement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77E00264-554B-4AB6-A07B-46E9612DE4E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Assignment as an Expression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In the C-based languages, Perl, and JavaScript, the assignment statement produces a result and can be used as an operand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while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((ch = getchar())!= EOF){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…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ch = getchar()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is carried out; the result (assigned to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ch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) is used as a conditional value for the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while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statement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Disadvantage: another kind of expression side effect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5B283F25-1C14-4031-8A47-1E56840F41D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Multiple Assignment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Perl, Ruby, and Lua allow multiple-target multiple-source assignment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($first, $second, $third) = (20, 30, 40)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Also, the following is legal and performs an interchange: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($first, $second) = ($second, $first)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Identifiers in functional languages are only names of value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M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Names are bound to values with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val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val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fruit = apples + oranges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If another val for fruit follows, it is a new and different name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F#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F#’s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let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is like ML’s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val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, except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let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also creates a new scope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Lucida Sans Unicode"/>
              </a:rPr>
              <a:t>Assignment in Functional Languages</a:t>
            </a:r>
            <a:endParaRPr b="0" lang="en-US" sz="32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13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A21E8252-5880-40F6-9364-82585266045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31C31D35-ADB6-48D7-9D55-E77157E65C7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Mixed-Mode Assignment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ssignment statements can also be mixed-mode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In Fortran, C, Perl, and C++, any numeric type value can be assigned to any numeric type variable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In Java and C#, only widening assignment coercions are done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In Ada, there is no assignment coercion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B9E2EAAF-7B41-4305-80E8-3ADD3281571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Summary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Expression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Operator precedence and associativity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Operator overloading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Mixed-type expression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Various forms of assignment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396A235A-8E58-4681-85A1-F04A67F1759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Arithmetic Expression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rithmetic evaluation was one of the motivations for the development of the first programming language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rithmetic expressions consist of operators, operands, parentheses, and function call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5911EF90-5047-478F-83D3-59A57B75392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Lucida Sans Unicode"/>
              </a:rPr>
              <a:t>Arithmetic Expressions: Design Issues</a:t>
            </a:r>
            <a:endParaRPr b="0" lang="en-US" sz="32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Design issues for arithmetic expression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914400" indent="-45720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Operator precedence rules?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914400" indent="-45720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Operator associativity rules?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914400" indent="-45720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Order of operand evaluation?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914400" indent="-45720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Operand evaluation side effects?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914400" indent="-45720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Operator overloading?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914400" indent="-45720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ype mixing in expressions?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AF57A515-3D96-47CE-9136-1C684DF02AB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Arithmetic Expressions: Operator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 unary operator has one operand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 binary operator has two operand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 ternary operator has three operand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BBBAE6BA-AD4C-455D-B98B-6404D06BEDC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Lucida Sans Unicode"/>
              </a:rPr>
              <a:t>Arithmetic Expressions: Operator Precedence Rules</a:t>
            </a:r>
            <a:endParaRPr b="0" lang="en-US" sz="32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he </a:t>
            </a: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operator precedence</a:t>
            </a:r>
            <a:r>
              <a:rPr b="0" i="1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rules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for expression evaluation define the order in which “adjacent” operators of different precedence levels are evaluated 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ypical precedence level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parenthese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unary operator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** (if the language supports it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*, /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+, -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439C8F31-A197-4D4D-9DF8-20038C14A36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Lucida Sans Unicode"/>
              </a:rPr>
              <a:t>Arithmetic Expressions: Operator Associativity Rule</a:t>
            </a:r>
            <a:endParaRPr b="0" lang="en-US" sz="32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he </a:t>
            </a:r>
            <a:r>
              <a:rPr b="0" i="1" lang="en-US" sz="2400" spc="-1" strike="noStrike">
                <a:solidFill>
                  <a:srgbClr val="333399"/>
                </a:solidFill>
                <a:latin typeface="Lucida Sans Unicode"/>
              </a:rPr>
              <a:t>operator associativity rules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for expression evaluation define the order in which adjacent operators with the same precedence level are evaluated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ypical associativity rule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Left to right, except **, which is right to left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Sometimes unary operators associate right to left (e.g., in FORTRAN)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PL is different; all operators have equal precedence and all operators associate right to left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Precedence and associativity rules can be overriden with parenthese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295A3DEB-0D89-4ED4-8988-CA516FFF2CC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Expressions in Ruby and Scheme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Ruby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ll arithmetic, relational, and assignment operators, as well as array indexing, shifts, and bit-wise logic operators, are implemented as method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-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One result of this is that these operators can all  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    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be overriden by application program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cheme (and Common Lisp)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ll arithmetic and logic operations are by explicitly called subprogram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a + b * c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is coded as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(+ a (* b c))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1T12:29:19Z</dcterms:created>
  <dc:creator>David Garrett</dc:creator>
  <dc:description/>
  <dc:language>en-US</dc:language>
  <cp:lastModifiedBy>Binod</cp:lastModifiedBy>
  <dcterms:modified xsi:type="dcterms:W3CDTF">2016-02-03T13:03:20Z</dcterms:modified>
  <cp:revision>69</cp:revision>
  <dc:subject/>
  <dc:title>Chapter 1</dc:title>
</cp:coreProperties>
</file>