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lick to move the slide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FD9DF-D6E2-444B-B2D2-5093E1E72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C1EC-D43B-4BD9-B58D-08CACB1E6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2BAA-3D4E-4BE0-8DD6-3F4B6C48FC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C19EA-6CE3-4DC0-AEC0-330BD8D2A8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F248-75ED-4E3C-AB10-8F4F9CC4E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3A930-5126-44C7-95CA-6C01EA5F36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D25C-76C8-4CF1-83B9-73F5C09557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CB76-6EB6-4AA9-B10F-CB606D1B9E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18E86-0025-4ADE-BBAA-49D302E52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E8B8-67D9-45F6-A948-94A6934A60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A8724-330E-467E-888C-22D11B18C5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AA32D-71CF-4133-89F8-47A397B85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BF678-E0EE-48BE-8B9D-2D80F089C8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4CD5D-4627-4A20-B818-AA3715006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E9A9-D353-4BFE-9BCA-45E608346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1F37-142B-4E36-B973-02676463A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61DB1-D344-42FB-BC4C-9D3CCA3AF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7D86-CC5C-4C02-9F65-2E5C31286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380FF-358E-4780-9A04-7A0128BB6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4466-2086-46FF-9435-44C03C5716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986AC-36D4-4EDF-9DD6-48A02638F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4944A-684F-4BE5-9BC3-979B81A07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519B-FE25-4C49-953A-FC480EC9F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9D5E-B662-4151-8F0A-F849A2E58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B8C3-6280-4BE6-883D-E07F70EEE1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EF1F-75A6-4AF5-BCB5-41F285FF5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86537-8314-4E17-A6E1-721EDD11F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2FB9-F2BB-4AEA-BC74-25BA756E01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9879-3A1B-42F7-AE7E-4E291A2626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0540-C87F-4062-A361-A01A4BB1A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86FE-F4F6-4066-9231-6DED40E43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5E5D-A6D2-4AFE-981F-A6C88A4D8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6B5D-5DEF-40DF-9C43-F3D028E7A4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C5CE-4C69-4411-B129-9864B40D6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84657-77DA-41A3-9C97-DAFE962510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0F785-B956-46AF-8022-A5ED97582F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AC79C-2BA0-46CF-B422-8BCC4CBFA1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600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25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1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600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25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F9646-0248-4F48-82C0-31E44F5404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C69EE-9A0D-4534-959E-7FC35D4155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364BD-A7EE-41B2-AF36-CCC2D1284B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E0A9C7-CA9D-4D5B-8418-1DD21875CD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6B17F-EFE4-4AF2-A47F-52CD0E3277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62D18-3304-4679-8C79-4986EB798EB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120" y="380520"/>
            <a:ext cx="815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C6787-B1B6-4EA6-B4F9-B7346E4C0F8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C90744-2226-47F0-9A6A-A16A2A3CDE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290B3-AA67-4946-8AC0-E70EF457A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D11013-73E1-463A-874C-65562CE99C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575DE-BF6A-411A-B4DC-CAAA54119E8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D1F01-243C-4644-88CD-7AB40BAD30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417AA-CF24-4DD8-AC78-F8B12EEEB3E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600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25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1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600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25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29F6DF-3A99-4FC8-B3CA-569450AB7C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E5FE91-6C66-4DF1-9A15-880E39FA4C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BB180-4258-42B4-9330-A3D1C7A0A0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1DA0C-6CE8-4B1E-B878-F7B16D4B2E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380520"/>
            <a:ext cx="815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33C86-4901-47A2-BA45-B4995F0C88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18D97-D30C-442F-9642-74425129F1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FBDF4-F87D-4E58-9D98-34E28B6E89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8E169-7E7D-4A7D-B0E8-99BA883588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65DFD66-93A2-4587-B2B7-C96F52D7E5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609480" y="1523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609480" y="1219320"/>
            <a:ext cx="815364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4281480" y="0"/>
            <a:ext cx="4848120" cy="6031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333399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2C67306-70BC-4F88-BF7C-943B02A3FB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Lucida Sans Unicode"/>
              </a:rPr>
              <a:t>Chapter 5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0880" y="3276720"/>
            <a:ext cx="3657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Lucida Sans Unicode"/>
              </a:rPr>
              <a:t>Names, Bindings, and Scop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74DD3E0A-EFAD-48F1-A2ED-FFBE278F76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Variables Attribute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Name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- not all variables have them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ddress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- the memory address with which it is associated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Lucida Sans Unicode"/>
              </a:rPr>
              <a:t>A variable may have different addresses at different times during execution</a:t>
            </a:r>
            <a:endParaRPr b="0" lang="en-US" sz="20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Lucida Sans Unicode"/>
              </a:rPr>
              <a:t>A variable may have different addresses at different places in a program</a:t>
            </a:r>
            <a:endParaRPr b="0" lang="en-US" sz="20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Lucida Sans Unicode"/>
              </a:rPr>
              <a:t>If two variable names can be used to access the same memory location, they are called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aliases</a:t>
            </a:r>
            <a:endParaRPr b="0" lang="en-US" sz="20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Lucida Sans Unicode"/>
              </a:rPr>
              <a:t>Aliases are created via pointers, reference variables, C and C++ unions</a:t>
            </a:r>
            <a:endParaRPr b="0" lang="en-US" sz="20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Aliases are harmful to readability (program readers must remember all of them) 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C9FB6306-BD82-4B31-AA14-2BDE724B5B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Variables Attributes (continued)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Type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- determines the range of values of variables and the set of operations that are defined for values of that type; in the case of floating point, type also determines the precis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Value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- the contents of the location with which the variable is associate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- The l-value of a variable is its addres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- The r-value of a variable is its valu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Abstract memory cell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- the physical cell or collection of cells associated with a variable  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70419368-54A8-4B97-B501-F625C0192C0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The Concept of Binding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binding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s an association between an entity and an attribute, such as between a variable and its type or value, or between an operation and a symbo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Binding time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s the time at which a binding takes place.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128A548-2BAE-41D8-B344-00EE609D14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ossible Binding Time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anguage design time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--  bind operator symbols to operation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anguage implementation time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-- bind floating point type to a representati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ompile time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-- bind a variable to a type in C or Java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oad time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-- bind a C or C++ 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static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variable to a memory cell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untime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-- bind a nonstatic local variable to a memory cel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CB6AC66-4257-4070-BC7D-666D512355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Static and Dynamic Binding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binding is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static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f it first occurs before run time and remains unchanged throughout program execution.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binding is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dynamic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f it first occurs during execution or can change during execution of the program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C0CE0BB7-5EFC-4C67-B812-60F433DC9C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Type Binding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How is a type specified?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When does the binding take place?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f static, the type may be specified by either an explicit or an implicit declarati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34D3195-5457-4B33-BD74-8493586B07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Explicit/Implicit Declarat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n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explicit declaration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s a program statement used for declaring the types of variabl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n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implicit declaration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s a default mechanism for specifying types of variables through default conventions, rather than declaration statement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Basic, Perl, Ruby, JavaScript, and PHP provide implicit declaration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Advantage: writability (a minor convenience)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Disadvantage: reliability (less trouble with Perl)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Explicit/Implicit Declaration </a:t>
            </a:r>
            <a:r>
              <a:rPr b="0" lang="en-US" sz="22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ome languages use type inferencing to determine types of variables (context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C# - a variable can be declared with </a:t>
            </a:r>
            <a:r>
              <a:rPr b="1" lang="en-US" sz="2400" spc="-1" strike="noStrike">
                <a:solidFill>
                  <a:srgbClr val="666699"/>
                </a:solidFill>
                <a:latin typeface="Courier New"/>
                <a:ea typeface="Courier New"/>
              </a:rPr>
              <a:t>var</a:t>
            </a: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 and an initial value. The initial value sets the type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Visual Basic 9.0+, ML, Haskell, and F# use type inferencing. The context of the appearance of a variable determines its type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5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4CAE6CB-2F35-4A9C-8F85-D7FDF7F58B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B7EDDE8-5478-4118-88EA-A68EBE3B80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Dynamic Type Binding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Dynamic Type Binding (JavaScript, Python, Ruby, PHP, and C# (limited)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pecified through an assignment statement         e.g., JavaScript        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list = [2, 4.33, 6, 8];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list = 17.3;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Advantage: flexibility (generic program units)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Disadvantages: 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3333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Lucida Sans Unicode"/>
              </a:rPr>
              <a:t>High cost (dynamic type checking and interpretation)</a:t>
            </a:r>
            <a:endParaRPr b="0" lang="en-US" sz="21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3333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Lucida Sans Unicode"/>
              </a:rPr>
              <a:t>Type error detection by the compiler is difficult</a:t>
            </a:r>
            <a:endParaRPr b="0" lang="en-US" sz="21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C4F30BD0-EBC3-48DA-989E-F59F4EA116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Variable Attributes 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torage Bindings &amp; Lifetim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llocation</a:t>
            </a: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 - getting a cell from some pool of available cells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eallocation</a:t>
            </a: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 - putting a cell back into the pool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ifetime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of a variable is the time during which it is bound to a particular memory cel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65D8A20-E62C-4B93-879C-D43B0FE216C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hapter 5 Topic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ntroduction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Nam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Variabl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Concept of Binding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cope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cope and Lifetim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Referencing Environment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Named Constant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8DEDCC3-9636-4F7D-B854-56C14E8A76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ategories of Variables by Lifetime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tatic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--bound to memory cells before execution begins and remains bound to the same memory cell throughout execution, e.g., C and C++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static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variables in function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dvantages</a:t>
            </a: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: efficiency  (direct addressing), history-sensitive subprogram support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isadvantage</a:t>
            </a: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: lack of flexibility  (no recursion)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C36B57F4-B19D-438F-BD28-FCA2CD1CAC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ategories of Variables by Lifetime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0769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tack-dynamic--Storage bindings are created for variables when their declaration statements are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elaborated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(A declaration is elaborated when the executable code associated with it is executed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f scalar, all attributes except address are statically boun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Lucida Sans Unicode"/>
              </a:rPr>
              <a:t>local variables in C subprograms (not declared </a:t>
            </a:r>
            <a:r>
              <a:rPr b="1" lang="en-US" sz="2000" spc="-1" strike="noStrike">
                <a:solidFill>
                  <a:srgbClr val="666699"/>
                </a:solidFill>
                <a:latin typeface="Courier New"/>
                <a:ea typeface="Courier New"/>
              </a:rPr>
              <a:t>static</a:t>
            </a:r>
            <a:r>
              <a:rPr b="0" lang="en-US" sz="2000" spc="-1" strike="noStrike">
                <a:solidFill>
                  <a:srgbClr val="666699"/>
                </a:solidFill>
                <a:latin typeface="Lucida Sans Unicode"/>
              </a:rPr>
              <a:t>) and Java methods</a:t>
            </a:r>
            <a:endParaRPr b="0" lang="en-US" sz="2000" spc="-1" strike="noStrike">
              <a:solidFill>
                <a:srgbClr val="666699"/>
              </a:solidFill>
              <a:latin typeface="Lucida Sans Unicode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dvantage: allows recursion; conserves storag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Disadvantages: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Overhead of allocation and deallocation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Subprograms cannot be history sensitive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Inefficient references (indirect addressing)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727E9114-DDBC-45A6-8840-719AE8B8F0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ategories of Variables by Lifetime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Explicit heap-dynamic -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- Allocated and deallocated by explicit directives, specified by the programmer, which take effect during execut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Referenced only through pointers or references, e.g. dynamic objects in C++ (via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new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an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delete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), all objects in Java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dvantage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: provides for dynamic storage management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Disadvantage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: inefficient and unreliabl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8DA42A6-5A93-48D4-B224-E10160D360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ategories of Variables by Lifetime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Implicit heap-dynamic-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-Allocation and deallocation caused by assignment statement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all variables in APL; all strings and arrays in Perl, JavaScript, and PHP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dvantage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: flexibility (generic code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isadvantages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: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Inefficient, because all attributes are dynamic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Loss of error detection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DE35AB0-BB34-4F54-ADB4-D27DF14A5C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Variable Attributes: Scope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scope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of a variable is the range of statements over which it is visibl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local variables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of a program unit are those that are declared in that unit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nonlocal variables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of a program unit are those that are visible in the unit but not declared ther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Global variables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are a special category of nonlocal variabl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scope rules of a language determine how references to names are associated with variabl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1FC64CF-C1B1-494B-86E3-9347D976BA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Static Scope</a:t>
            </a:r>
            <a:br>
              <a:rPr sz="3200"/>
            </a:b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Based on program text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o connect a name reference to a variable, you (or the compiler) must find the declarat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Search process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: search declarations, first locally, then in increasingly larger enclosing scopes, until one is found for the given nam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Enclosing static scopes (to a specific scope) are called its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static ancestors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; the nearest static ancestor is called a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static parent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ome languages allow nested subprogram definitions, which create nested static scopes (e.g., Ada, JavaScript, Common Lisp, Scheme, Fortran 2003+, F#, and Python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53EEFF2-A988-4093-9FC0-7FE72FCAE68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Scope (continued)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Variables can be hidden from a unit by having a "closer" variable with the same nam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55F0CB3-E5AF-48B7-86D5-05E135DACE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Blocks </a:t>
            </a:r>
            <a:br>
              <a:rPr sz="3200"/>
            </a:b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Lucida Sans Unicode"/>
              </a:rPr>
              <a:t>A method of creating static scopes inside program units--from ALGOL 60</a:t>
            </a:r>
            <a:endParaRPr b="0" lang="en-US" sz="20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Lucida Sans Unicode"/>
              </a:rPr>
              <a:t>Example in C:</a:t>
            </a:r>
            <a:endParaRPr b="0" lang="en-US" sz="2000" spc="-1" strike="noStrike">
              <a:solidFill>
                <a:srgbClr val="6666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void sub() {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            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int count;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            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while (...) {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int count;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              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count++;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              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            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             …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          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- Note: legal in C and C++, but not in Java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             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and C# - too error-pron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The </a:t>
            </a:r>
            <a:r>
              <a:rPr b="1" lang="en-US" sz="3200" spc="-1" strike="noStrike">
                <a:solidFill>
                  <a:srgbClr val="666699"/>
                </a:solidFill>
                <a:latin typeface="Courier New"/>
                <a:ea typeface="Courier New"/>
              </a:rPr>
              <a:t>LET</a:t>
            </a: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 Construct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Most functional languages include some form of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le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construc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let construct has two part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Lucida Sans Unicode"/>
              </a:rPr>
              <a:t>The first part binds names to values</a:t>
            </a:r>
            <a:endParaRPr b="0" lang="en-US" sz="20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Lucida Sans Unicode"/>
              </a:rPr>
              <a:t>The second part uses the names defined in the first part</a:t>
            </a:r>
            <a:endParaRPr b="0" lang="en-US" sz="2000" spc="-1" strike="noStrike">
              <a:solidFill>
                <a:srgbClr val="6666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n Scheme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(LET (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(name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urier New"/>
                <a:ea typeface="Courier New"/>
              </a:rPr>
              <a:t>1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 expression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urier New"/>
                <a:ea typeface="Courier New"/>
              </a:rPr>
              <a:t>1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)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  …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(name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urier New"/>
                <a:ea typeface="Courier New"/>
              </a:rPr>
              <a:t>n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 expression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urier New"/>
                <a:ea typeface="Courier New"/>
              </a:rPr>
              <a:t>n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)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)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9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40D3FF0-A2FF-4536-85C3-BC788E4965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The </a:t>
            </a:r>
            <a:r>
              <a:rPr b="1" lang="en-US" sz="3200" spc="-1" strike="noStrike">
                <a:solidFill>
                  <a:srgbClr val="666699"/>
                </a:solidFill>
                <a:latin typeface="Courier New"/>
                <a:ea typeface="Courier New"/>
              </a:rPr>
              <a:t>LET</a:t>
            </a: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 Construct 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n ML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let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val name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urier New"/>
                <a:ea typeface="Courier New"/>
              </a:rPr>
              <a:t>1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 = expression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urier New"/>
                <a:ea typeface="Courier New"/>
              </a:rPr>
              <a:t>1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  …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val name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urier New"/>
                <a:ea typeface="Courier New"/>
              </a:rPr>
              <a:t>n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 = expression</a:t>
            </a:r>
            <a:r>
              <a:rPr b="0" lang="en-US" sz="1800" spc="-1" strike="noStrike" baseline="-25000">
                <a:solidFill>
                  <a:srgbClr val="333399"/>
                </a:solidFill>
                <a:latin typeface="Courier New"/>
                <a:ea typeface="Courier New"/>
              </a:rPr>
              <a:t>n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n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xpression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29040" indent="-329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nd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In F#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13160" indent="-274320">
              <a:spcBef>
                <a:spcPts val="499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  <a:ea typeface="Courier New"/>
              </a:rPr>
              <a:t>First part: </a:t>
            </a:r>
            <a:r>
              <a:rPr b="1" lang="en-US" sz="1800" spc="-1" strike="noStrike">
                <a:solidFill>
                  <a:srgbClr val="666699"/>
                </a:solidFill>
                <a:latin typeface="Courier New"/>
                <a:ea typeface="Courier New"/>
              </a:rPr>
              <a:t>let</a:t>
            </a:r>
            <a:r>
              <a:rPr b="0" lang="en-US" sz="2400" spc="-1" strike="noStrike">
                <a:solidFill>
                  <a:srgbClr val="666699"/>
                </a:solidFill>
                <a:latin typeface="Lucida Sans Unicode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666699"/>
                </a:solidFill>
                <a:latin typeface="Lucida Sans Unicode"/>
                <a:ea typeface="Courier New"/>
              </a:rPr>
              <a:t>left_side </a:t>
            </a:r>
            <a:r>
              <a:rPr b="0" lang="en-US" sz="1800" spc="-1" strike="noStrike">
                <a:solidFill>
                  <a:srgbClr val="666699"/>
                </a:solidFill>
                <a:latin typeface="Courier New"/>
                <a:ea typeface="Courier New"/>
              </a:rPr>
              <a:t>=</a:t>
            </a:r>
            <a:r>
              <a:rPr b="0" lang="en-US" sz="2000" spc="-1" strike="noStrike">
                <a:solidFill>
                  <a:srgbClr val="666699"/>
                </a:solidFill>
                <a:latin typeface="Lucida Sans Unicode"/>
                <a:ea typeface="Courier New"/>
              </a:rPr>
              <a:t> expression</a:t>
            </a:r>
            <a:endParaRPr b="0" lang="en-US" sz="20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713160" indent="-274320"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666699"/>
                </a:solidFill>
                <a:latin typeface="Lucida Sans Unicode"/>
                <a:ea typeface="Courier New"/>
              </a:rPr>
              <a:t>left_side</a:t>
            </a:r>
            <a:r>
              <a:rPr b="0" lang="en-US" sz="2400" spc="-1" strike="noStrike">
                <a:solidFill>
                  <a:srgbClr val="666699"/>
                </a:solidFill>
                <a:latin typeface="Lucida Sans Unicode"/>
                <a:ea typeface="Courier New"/>
              </a:rPr>
              <a:t> is either a name or a tuple pattern)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713160" indent="-274320"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  <a:ea typeface="Courier New"/>
              </a:rPr>
              <a:t>All that follows is the second part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0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39ED854C-5337-4256-94EC-6219C80580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C30EF616-5A1F-4281-96EC-9D7B8AEB01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Introduct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mperative languages are abstractions of von Neumann architectur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Memory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Processor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Variables are characterized by attribut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To design a type, must consider scope, lifetime, type checking, initialization, and type compatibility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Declaration Order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99, C++, Java, and C# allow variable declarations to appear anywhere a statement can appear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In C99, C++, and Java, the scope of all local variables is from the declaration to the end of the block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In C#, the scope of any variable declared in a block is the whole block, regardless of the position of the declaration in the block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3333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Lucida Sans Unicode"/>
              </a:rPr>
              <a:t>However, a variable still must be declared before it can be used</a:t>
            </a:r>
            <a:endParaRPr b="0" lang="en-US" sz="21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0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F7CCDB0-8DF8-4768-8B2D-D3D8882CD2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Declaration Order </a:t>
            </a: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n C++, Java, and C#, variables can be declared in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for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statement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The scope of such variables is restricted to the </a:t>
            </a:r>
            <a:r>
              <a:rPr b="0" lang="en-US" sz="2000" spc="-1" strike="noStrike">
                <a:solidFill>
                  <a:srgbClr val="666699"/>
                </a:solidFill>
                <a:latin typeface="Courier New"/>
                <a:ea typeface="Courier New"/>
              </a:rPr>
              <a:t>for</a:t>
            </a: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 construct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1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FDD5F6A-473C-4940-9E2E-E3E4F6E8BC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Global Scope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09120" y="152352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, C++, PHP, and Python support a program structure that consists of a sequence of function definitions in a fil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These languages allow variable declarations to appear outside function definitions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 and C++have both declarations (just attributes) and definitions (attributes and storage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A declaration outside a function definition specifies that it is defined in another file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1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84D7165-C57D-4C3A-A44A-7EDF63387E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Global Scope 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HP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Programs are embedded in HTML markup documents, in any number of fragments, some statements and some function definitions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The scope of a variable (implicitly) declared in a function is local to the function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The scope of a variable implicitly declared outside functions is from the declaration to the end of the program, but skips over any intervening functions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143000" indent="-228600">
              <a:spcBef>
                <a:spcPts val="451"/>
              </a:spcBef>
              <a:buClr>
                <a:srgbClr val="3333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Lucida Sans Unicode"/>
              </a:rPr>
              <a:t>Global variables can be accessed in a function through the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$GLOBALS</a:t>
            </a:r>
            <a:r>
              <a:rPr b="0" lang="en-US" sz="2100" spc="-1" strike="noStrike">
                <a:solidFill>
                  <a:srgbClr val="333399"/>
                </a:solidFill>
                <a:latin typeface="Lucida Sans Unicode"/>
              </a:rPr>
              <a:t> array or by declaring it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global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1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E796331-C551-429B-BA87-48A36C67F4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Global Scope 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yth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A global variable can be referenced in functions, but can be assigned in a function only if it has been declared to be </a:t>
            </a:r>
            <a:r>
              <a:rPr b="0" lang="en-US" sz="2000" spc="-1" strike="noStrike">
                <a:solidFill>
                  <a:srgbClr val="666699"/>
                </a:solidFill>
                <a:latin typeface="Courier New"/>
                <a:ea typeface="Courier New"/>
              </a:rPr>
              <a:t>global</a:t>
            </a: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 in the function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2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5E1ACE1-3BF5-4506-8EFB-3183F9ABA3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0E75DB4-5379-4DEC-B3CF-DE1F68A2A4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Evaluation of Static Scoping</a:t>
            </a:r>
            <a:br>
              <a:rPr sz="3200"/>
            </a:b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Works well in many situation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roblems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In most cases, too much access is possible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As a program evolves, the initial structure is destroyed and local variables often become global; subprograms also gravitate toward become global, rather than nested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5F8307D-5F3E-42CA-BB1D-8B2D57FA9C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Dynamic Scope</a:t>
            </a:r>
            <a:br>
              <a:rPr sz="3200"/>
            </a:b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Based on calling sequences of program units, not their textual layout (temporal versus spatial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References to variables are connected to declarations by searching back through the chain of subprogram calls that forced execution to this poin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244EAC4-CB2F-4F7B-A2E8-1289BE23330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Scope Example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71625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      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function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big() {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          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function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sub1()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             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var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x = 7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          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function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sub2() {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            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var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y = x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         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var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x = 3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Static scoping 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Lucida Sans Unicode"/>
              </a:rPr>
              <a:t>Reference to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x</a:t>
            </a:r>
            <a:r>
              <a:rPr b="0" lang="en-US" sz="2100" spc="-1" strike="noStrike">
                <a:solidFill>
                  <a:srgbClr val="333399"/>
                </a:solidFill>
                <a:latin typeface="Lucida Sans Unicode"/>
              </a:rPr>
              <a:t> in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sub2</a:t>
            </a:r>
            <a:r>
              <a:rPr b="0" lang="en-US" sz="2100" spc="-1" strike="noStrike">
                <a:solidFill>
                  <a:srgbClr val="333399"/>
                </a:solidFill>
                <a:latin typeface="Lucida Sans Unicode"/>
              </a:rPr>
              <a:t> is to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big</a:t>
            </a:r>
            <a:r>
              <a:rPr b="0" lang="en-US" sz="2100" spc="-1" strike="noStrike">
                <a:solidFill>
                  <a:srgbClr val="333399"/>
                </a:solidFill>
                <a:latin typeface="Lucida Sans Unicode"/>
              </a:rPr>
              <a:t>'s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x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Dynamic scoping 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Lucida Sans Unicode"/>
              </a:rPr>
              <a:t>Reference to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x</a:t>
            </a:r>
            <a:r>
              <a:rPr b="0" lang="en-US" sz="2100" spc="-1" strike="noStrike">
                <a:solidFill>
                  <a:srgbClr val="333399"/>
                </a:solidFill>
                <a:latin typeface="Lucida Sans Unicode"/>
              </a:rPr>
              <a:t> in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sub2</a:t>
            </a:r>
            <a:r>
              <a:rPr b="0" lang="en-US" sz="2100" spc="-1" strike="noStrike">
                <a:solidFill>
                  <a:srgbClr val="333399"/>
                </a:solidFill>
                <a:latin typeface="Lucida Sans Unicode"/>
              </a:rPr>
              <a:t> is to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sub1</a:t>
            </a:r>
            <a:r>
              <a:rPr b="0" lang="en-US" sz="2100" spc="-1" strike="noStrike">
                <a:solidFill>
                  <a:srgbClr val="333399"/>
                </a:solidFill>
                <a:latin typeface="Lucida Sans Unicode"/>
              </a:rPr>
              <a:t>'s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x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               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2701080" y="5246640"/>
            <a:ext cx="223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7520" rIns="47520" tIns="19080" bIns="19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4"/>
          <p:cNvSpPr/>
          <p:nvPr/>
        </p:nvSpPr>
        <p:spPr>
          <a:xfrm>
            <a:off x="5576040" y="1382760"/>
            <a:ext cx="20095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ig calls su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b1 calls su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ub2 uses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0CA061A-D744-4B1F-AEFA-94B6EFB9F3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Scope Example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valuation of Dynamic Scoping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Advantage: convenience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6699"/>
                </a:solidFill>
                <a:latin typeface="Lucida Sans Unicode"/>
              </a:rPr>
              <a:t>Disadvantages:</a:t>
            </a: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371600" indent="-457200">
              <a:spcBef>
                <a:spcPts val="524"/>
              </a:spcBef>
              <a:buClr>
                <a:srgbClr val="333399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Lucida Sans Unicode"/>
              </a:rPr>
              <a:t>While a subprogram is executing, its variables are visible to all subprograms it calls</a:t>
            </a:r>
            <a:endParaRPr b="0" lang="en-US" sz="21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371600" indent="-457200">
              <a:spcBef>
                <a:spcPts val="524"/>
              </a:spcBef>
              <a:buClr>
                <a:srgbClr val="333399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100" spc="-1" strike="noStrike">
                <a:solidFill>
                  <a:srgbClr val="333399"/>
                </a:solidFill>
                <a:latin typeface="Lucida Sans Unicode"/>
              </a:rPr>
              <a:t>Impossible to statically type check</a:t>
            </a:r>
            <a:endParaRPr b="0" lang="en-US" sz="21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3716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Lucida Sans Unicode"/>
              </a:rPr>
              <a:t>3. Poor readability- it is not possible to statically</a:t>
            </a:r>
            <a:endParaRPr b="0" lang="en-US" sz="21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3716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0" lang="en-US" sz="2100" spc="-1" strike="noStrike">
                <a:solidFill>
                  <a:srgbClr val="333399"/>
                </a:solidFill>
                <a:latin typeface="Lucida Sans Unicode"/>
              </a:rPr>
              <a:t>determine the type of a variable</a:t>
            </a:r>
            <a:endParaRPr b="0" lang="en-US" sz="21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4EAEC6B-B29E-40AA-A92F-A0EC77565D8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Scope and Lifetime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cope and lifetime are sometimes closely related, but are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differen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concept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onsider a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static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variable in a C or C++ functi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D73E179D-AA88-4428-AAA9-FC74FBB9B25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Name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Design issues for names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Are names case sensitive?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Are special words reserved words or keywords?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EC5B78A-D804-4F6E-9F07-075994C806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Referencing Environment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referencing environment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of a statement is the collection of all names that are visible in the statement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n a static-scoped language, it is the local variables plus all of the visible variables in all of the enclosing scopes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 subprogram is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ctive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if its execution has begun but has not yet terminate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n a dynamic-scoped language, the referencing environment is the local variables plus all visible variables in all active subprogram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7D1573DC-08DA-4385-9849-B7AC28BC5C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Named Constant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named constant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is a variable that is bound to a value only when it is bound to storag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dvantages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: readability and modifiability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Used to parameterize program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binding of values to named constants can be either static (called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manifest constants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) or dynamic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Languages: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Lucida Sans Unicode"/>
              </a:rPr>
              <a:t>C++ and Java: expressions of any kind, dynamically bound</a:t>
            </a:r>
            <a:endParaRPr b="0" lang="en-US" sz="20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Lucida Sans Unicode"/>
              </a:rPr>
              <a:t>C# has two kinds, </a:t>
            </a:r>
            <a:r>
              <a:rPr b="1" lang="en-US" sz="1800" spc="-1" strike="noStrike">
                <a:solidFill>
                  <a:srgbClr val="666699"/>
                </a:solidFill>
                <a:latin typeface="Courier New"/>
              </a:rPr>
              <a:t>readonly</a:t>
            </a:r>
            <a:r>
              <a:rPr b="0" lang="en-US" sz="2000" spc="-1" strike="noStrike">
                <a:solidFill>
                  <a:srgbClr val="666699"/>
                </a:solidFill>
                <a:latin typeface="Lucida Sans Unicode"/>
              </a:rPr>
              <a:t> and </a:t>
            </a:r>
            <a:r>
              <a:rPr b="1" lang="en-US" sz="1800" spc="-1" strike="noStrike">
                <a:solidFill>
                  <a:srgbClr val="666699"/>
                </a:solidFill>
                <a:latin typeface="Courier New"/>
              </a:rPr>
              <a:t>const</a:t>
            </a:r>
            <a:endParaRPr b="0" lang="en-US" sz="18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Lucida Sans Unicode"/>
              </a:rPr>
              <a:t>    </a:t>
            </a:r>
            <a:r>
              <a:rPr b="0" lang="en-US" sz="2000" spc="-1" strike="noStrike">
                <a:solidFill>
                  <a:srgbClr val="666699"/>
                </a:solidFill>
                <a:latin typeface="Lucida Sans Unicode"/>
              </a:rPr>
              <a:t>- the values of </a:t>
            </a:r>
            <a:r>
              <a:rPr b="1" lang="en-US" sz="1800" spc="-1" strike="noStrike">
                <a:solidFill>
                  <a:srgbClr val="666699"/>
                </a:solidFill>
                <a:latin typeface="Courier New"/>
              </a:rPr>
              <a:t>const</a:t>
            </a:r>
            <a:r>
              <a:rPr b="0" lang="en-US" sz="2000" spc="-1" strike="noStrike">
                <a:solidFill>
                  <a:srgbClr val="666699"/>
                </a:solidFill>
                <a:latin typeface="Lucida Sans Unicode"/>
              </a:rPr>
              <a:t> named constants are bound at</a:t>
            </a:r>
            <a:endParaRPr b="0" lang="en-US" sz="20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Lucida Sans Unicode"/>
              </a:rPr>
              <a:t>        </a:t>
            </a:r>
            <a:r>
              <a:rPr b="0" lang="en-US" sz="2000" spc="-1" strike="noStrike">
                <a:solidFill>
                  <a:srgbClr val="666699"/>
                </a:solidFill>
                <a:latin typeface="Lucida Sans Unicode"/>
              </a:rPr>
              <a:t>compile time</a:t>
            </a:r>
            <a:endParaRPr b="0" lang="en-US" sz="20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Lucida Sans Unicode"/>
              </a:rPr>
              <a:t>    </a:t>
            </a:r>
            <a:r>
              <a:rPr b="0" lang="en-US" sz="2000" spc="-1" strike="noStrike">
                <a:solidFill>
                  <a:srgbClr val="666699"/>
                </a:solidFill>
                <a:latin typeface="Lucida Sans Unicode"/>
              </a:rPr>
              <a:t>- The values of </a:t>
            </a:r>
            <a:r>
              <a:rPr b="1" lang="en-US" sz="1800" spc="-1" strike="noStrike">
                <a:solidFill>
                  <a:srgbClr val="666699"/>
                </a:solidFill>
                <a:latin typeface="Courier New"/>
              </a:rPr>
              <a:t>readonly</a:t>
            </a:r>
            <a:r>
              <a:rPr b="0" lang="en-US" sz="2000" spc="-1" strike="noStrike">
                <a:solidFill>
                  <a:srgbClr val="666699"/>
                </a:solidFill>
                <a:latin typeface="Lucida Sans Unicode"/>
              </a:rPr>
              <a:t> named constants are </a:t>
            </a:r>
            <a:endParaRPr b="0" lang="en-US" sz="20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Lucida Sans Unicode"/>
              </a:rPr>
              <a:t>        </a:t>
            </a:r>
            <a:r>
              <a:rPr b="0" lang="en-US" sz="2000" spc="-1" strike="noStrike">
                <a:solidFill>
                  <a:srgbClr val="666699"/>
                </a:solidFill>
                <a:latin typeface="Lucida Sans Unicode"/>
              </a:rPr>
              <a:t>dynamically bound</a:t>
            </a:r>
            <a:endParaRPr b="0" lang="en-US" sz="2000" spc="-1" strike="noStrike">
              <a:solidFill>
                <a:srgbClr val="6666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5B6C61C-D114-4AA5-8444-890458E49C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Summary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ase sensitivity and the relationship of names to special words represent design issues of nam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Variables are characterized by the sextuples: name, address, value, type, lifetime, scop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Binding is the association of attributes with program entiti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calar variables are categorized as: static, stack dynamic, explicit heap dynamic, implicit heap dynamic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trong typing means detecting all type error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C4B4BD8-6C77-4A85-919E-3428E7B6D6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Names (continued)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65280" y="16207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Length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If too short, they cannot be connotative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Language examples: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3333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Lucida Sans Unicode"/>
              </a:rPr>
              <a:t>C99: no limit but only the first 63 are significant; also, external names are limited to a maximum of 31</a:t>
            </a:r>
            <a:endParaRPr b="0" lang="en-US" sz="21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3333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Lucida Sans Unicode"/>
              </a:rPr>
              <a:t>C# and Java: no limit, and all are significant</a:t>
            </a:r>
            <a:endParaRPr b="0" lang="en-US" sz="21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3333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Lucida Sans Unicode"/>
              </a:rPr>
              <a:t>C++: no limit, but implementers often impose one</a:t>
            </a:r>
            <a:endParaRPr b="0" lang="en-US" sz="21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0D3ECA9-08A2-4BEA-9A29-FB682674BE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Names (continued)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pecial character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PHP: all variable names must begin with dollar signs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Perl: all variable names begin with special characters, which specify the variable’s type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Ruby: variable names that begin with </a:t>
            </a:r>
            <a:r>
              <a:rPr b="0" lang="en-US" sz="2400" spc="-1" strike="noStrike">
                <a:solidFill>
                  <a:srgbClr val="666699"/>
                </a:solidFill>
                <a:latin typeface="Courier New"/>
                <a:ea typeface="Courier New"/>
              </a:rPr>
              <a:t>@</a:t>
            </a: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 are instance variables; those that begin with </a:t>
            </a:r>
            <a:r>
              <a:rPr b="0" lang="en-US" sz="2000" spc="-1" strike="noStrike">
                <a:solidFill>
                  <a:srgbClr val="666699"/>
                </a:solidFill>
                <a:latin typeface="Courier New"/>
                <a:ea typeface="Courier New"/>
              </a:rPr>
              <a:t>@@</a:t>
            </a: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 are class variables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Names (continued)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ase sensitivity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Disadvantage: readability (names that look alike are different)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3333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Lucida Sans Unicode"/>
              </a:rPr>
              <a:t>Names in the C-based languages are case sensitive</a:t>
            </a:r>
            <a:endParaRPr b="0" lang="en-US" sz="21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3333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Lucida Sans Unicode"/>
              </a:rPr>
              <a:t>Names in others are not</a:t>
            </a:r>
            <a:endParaRPr b="0" lang="en-US" sz="21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3333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3399"/>
                </a:solidFill>
                <a:latin typeface="Lucida Sans Unicode"/>
              </a:rPr>
              <a:t>Worse in C++, Java, and C#  because predefined  names are mixed case  (e.g. </a:t>
            </a:r>
            <a:r>
              <a:rPr b="0" lang="en-US" sz="2100" spc="-1" strike="noStrike">
                <a:solidFill>
                  <a:srgbClr val="333399"/>
                </a:solidFill>
                <a:latin typeface="Courier New"/>
              </a:rPr>
              <a:t>IndexOutOfBoundsException</a:t>
            </a:r>
            <a:r>
              <a:rPr b="0" lang="en-US" sz="2100" spc="-1" strike="noStrike">
                <a:solidFill>
                  <a:srgbClr val="333399"/>
                </a:solidFill>
                <a:latin typeface="Lucida Sans Unicode"/>
              </a:rPr>
              <a:t>)</a:t>
            </a:r>
            <a:endParaRPr b="0" lang="en-US" sz="21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FBFD01B-05DF-4033-86CC-02E8FA16D9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D7ED383-44C7-4EA6-AD93-2B5737A973C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Names (continued)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Special word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An aid to readability; used to delimit or separate statement clauses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A </a:t>
            </a:r>
            <a:r>
              <a:rPr b="0" i="1" lang="en-US" sz="2400" spc="-1" strike="noStrike">
                <a:solidFill>
                  <a:srgbClr val="666699"/>
                </a:solidFill>
                <a:latin typeface="Lucida Sans Unicode"/>
              </a:rPr>
              <a:t>keyword</a:t>
            </a: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 is a word that is special only in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   </a:t>
            </a: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certain contexts</a:t>
            </a:r>
            <a:r>
              <a:rPr b="0" i="1" lang="en-US" sz="1600" spc="-1" strike="noStrike">
                <a:solidFill>
                  <a:srgbClr val="666699"/>
                </a:solidFill>
                <a:latin typeface="Lucida Sans Unicode"/>
              </a:rPr>
              <a:t>	</a:t>
            </a:r>
            <a:r>
              <a:rPr b="0" i="1" lang="en-US" sz="1600" spc="-1" strike="noStrike">
                <a:solidFill>
                  <a:srgbClr val="666699"/>
                </a:solidFill>
                <a:latin typeface="Lucida Sans Unicode"/>
              </a:rPr>
              <a:t>                                                      </a:t>
            </a:r>
            <a:endParaRPr b="0" lang="en-US" sz="16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A </a:t>
            </a:r>
            <a:r>
              <a:rPr b="0" i="1" lang="en-US" sz="2400" spc="-1" strike="noStrike">
                <a:solidFill>
                  <a:srgbClr val="666699"/>
                </a:solidFill>
                <a:latin typeface="Lucida Sans Unicode"/>
              </a:rPr>
              <a:t>reserved word</a:t>
            </a: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 is a special word that cannot be used as a user-defined name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Potential problem with reserved words: If there are too many, many collisions occur (e.g., COBOL has 300 reserved words!)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1859C6D-2D75-425B-A790-8B84ED72DE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Variable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variable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s an abstraction of a memory cel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Variables can be characterized as a sextuple of attributes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Name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Address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Value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Type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Lifetime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Scope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1T12:29:19Z</dcterms:created>
  <dc:creator>David Garrett</dc:creator>
  <dc:description/>
  <dc:language>en-US</dc:language>
  <cp:lastModifiedBy>Binod</cp:lastModifiedBy>
  <dcterms:modified xsi:type="dcterms:W3CDTF">2016-02-03T13:03:04Z</dcterms:modified>
  <cp:revision>56</cp:revision>
  <dc:subject/>
  <dc:title>Chapter 1</dc:title>
</cp:coreProperties>
</file>