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5E925-A3C5-4AED-A973-8CE5CE14F3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CF56-922E-4C00-9EC3-93A860CDAD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A0EF0-0DFC-4C4E-A1F1-6DDE483A48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5A8A-B54B-4981-B084-51D8D47C4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FA1A-18CA-4936-AC5F-B7AFAD40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43DDC-0AA7-4B24-B501-6EA3C3791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10C9-F1D8-4797-91F8-42BED2221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237AF-A368-4FB4-8182-E25EF7276A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841F-14C7-4D8C-9E4D-4B4C03A2F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FAC-71D7-481A-A762-E7A55A8A05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6420-2CBD-4D14-A675-81412A17E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09E5-BFAC-477F-B10F-3E4730FAD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26C16-C970-4912-A694-1E4B1A5EA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5422-976F-4784-92BF-88295FFECF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7F05-DD0D-42E1-A30A-7B59FB62F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BDAAE-91BB-4F1E-B816-2351BA019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455F7-ED62-426D-BF40-59E647F57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ADE27-5C3B-431E-A159-AC0D1B9BF2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0555C-D82F-4A28-8DB5-AD9501DDA8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D811-B77D-42C5-869F-A98C326F8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4F3C8-DC9C-430C-8319-01363027E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A63C-F050-4F18-90FC-DDF720CD4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805D1-9B54-4117-88E9-8C038D6B3A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4B3-7549-4569-9031-BAC4E33D7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25B8-51BF-4B35-9C31-479E0A79F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D1CF-FCEB-480E-9BD7-22DCE0550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773A-3AB7-497A-AF46-71C5793D2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486E-02D2-40DF-BECA-FA204596F4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EF6C-49F3-4096-B285-EB7899BC7C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4FCA-7CD0-4BC6-B729-60D8EFBFA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D594F-0B20-4748-8CAD-B67F013DD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EA717-7BF5-4DB6-B337-7D14A4004F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3DE07-6776-42AF-ACEE-EF5657121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B1AE-410F-4C96-A664-1C2D0102C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C357-DC60-494F-AD86-A4C9934270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BC7C3-BDD7-426E-8D73-09047831E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FA214-09C0-42D2-B25D-7A24CD61F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3B352-C8AA-4300-844F-6468C56C3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8455-87DE-43C8-977D-8B8B2B51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6528-874C-469D-8EFD-40C4903DA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484BE-1FF7-49EF-80F5-39BDA85445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4754E-5A0D-4EA0-8BE0-11393DEC6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7B746-7E2C-4235-B6C1-A8DCE0D5B4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64465-1835-4864-9067-AFDF9AD75F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51EFC-95F7-461B-820B-6D523DD7A9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A23C-9347-46A2-A630-5B9DCAA5EE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FC34A-273E-456A-9657-A3271C19F0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2DC6E-FBF9-4D8D-8913-06B8A39D5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D1477-09DD-4279-A2E4-4CA575C8B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E2BF-69D3-4838-B945-B0CFBAED89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3C4F9-F460-4BA5-AAF7-4B244E0C8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C3768D-3DD3-45D0-ABFB-C9FBDE53C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4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85ABE2C-9331-4880-87F4-929A845292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6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Logic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ABA2535-B10A-405F-BDAB-E649CDC0ABF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ogical Opera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487520"/>
          <a:ext cx="8229600" cy="4429080"/>
        </p:xfrm>
        <a:graphic>
          <a:graphicData uri="http://schemas.openxmlformats.org/drawingml/2006/table">
            <a:tbl>
              <a:tblPr/>
              <a:tblGrid>
                <a:gridCol w="2311560"/>
                <a:gridCol w="1506600"/>
                <a:gridCol w="1697040"/>
                <a:gridCol w="2714400"/>
              </a:tblGrid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neg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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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not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conj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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and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disjun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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or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equival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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is equivalent to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im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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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a implies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b implies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DEB3228-9886-416A-8ECD-CCCBABAE73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Quantifi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1905120"/>
          <a:ext cx="8172720" cy="2176200"/>
        </p:xfrm>
        <a:graphic>
          <a:graphicData uri="http://schemas.openxmlformats.org/drawingml/2006/table">
            <a:tbl>
              <a:tblPr/>
              <a:tblGrid>
                <a:gridCol w="2036880"/>
                <a:gridCol w="1852560"/>
                <a:gridCol w="4283280"/>
              </a:tblGrid>
              <a:tr h="677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N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univers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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  <a:ea typeface="Arial Unicode MS"/>
                        </a:rPr>
                        <a:t>X.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For all X, P is 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existenti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Symbol"/>
                          <a:ea typeface="Symbol"/>
                        </a:rPr>
                        <a:t>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  <a:ea typeface="Arial Unicode MS"/>
                        </a:rPr>
                        <a:t>X.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Lucida Sans Unicode"/>
                        </a:rPr>
                        <a:t>There exists a value of X such that P is 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FF43600-5B4E-41C6-871F-7ED8D37F45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ausal Form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5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oo many ways to state the same th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5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 a standard form for proposi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5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lausal for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B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1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2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</a:rPr>
              <a:t>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eans if all the As are true, then at least one B is tr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5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nteced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right si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5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nsequ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left si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FBF3DA-4FAF-4A93-8A5F-F0BD4794AE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edicate Calculus and Proving Theore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use of propositions is to discover new theorems that can be inferred from known axioms and theore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solu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n inference principle that allows inferred propositions to be computed from given proposi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87A7A89-7472-40A0-99D0-0F41F090AA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solu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Unific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finding values for variables in propositions that allows matching process to succe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nstanti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ssigning temporary values to variables to allow unification to succe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fter instantiating a variable with a value,  if matching fails, may need to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backtrack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instantiate with a different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9257DB-8B47-491C-BA20-0EC56D0644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of by Contradi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ypothes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 set of pertinent proposi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Go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negation of theorem stated as a propos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orem is proved by finding an inconsist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9C52211-32C1-404C-9749-636D47931A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orem Prov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is for logic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propositions used for resolution, only restricted form can be u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orn claus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can have only two for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Head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single atomic proposition on left si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Headles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empty left side (used to state fact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st propositions can be stated as Horn clau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B750222-EAEB-4EC3-9F5B-E38D43E2C7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verview of Logic Programm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clarative semantic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re is a simple way to determine the meaning of each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pler than the semantics of imperative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ming is nonprocedur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s do not state now a result is to be computed, but rather the form of the resul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6E3905A-54F0-4B54-BAC2-DD97A0709F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: Sorting a Lis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cribe the characteristics of a sorted list, not the process of rearranging a li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rt(old_list, new_list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permute (old_list, new_list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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orted (new_lis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sorted (list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 baseline="-25000">
                <a:solidFill>
                  <a:srgbClr val="333399"/>
                </a:solidFill>
                <a:latin typeface="Lucida Sans Unicode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 such that 1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 j &lt; n, list(j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Arial Unicode MS"/>
              </a:rPr>
              <a:t> list (j+1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E54A8AA-FDBE-4AB3-8215-2E2DB2389BE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Origins of Prolo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niversity of Aix-Marseille (Calmerauer &amp; Roussel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tural language proce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niversity of Edinburgh (Kowalski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utomated theorem prov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0F3AEAB-A237-4ACC-BABA-833355CBDA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6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Brief Introduction to Predicate Calcul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edicate Calculus and Proving Theore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Overview of Logic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Origins of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asic Elements of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ficiencies of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pplications of Logic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D50B93A-0604-4137-BDC7-26C26D8670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er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s book uses the Edinburgh syntax of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er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 constant, variable, or struct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nsta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n atom or an integ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to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symbolic value of Prolo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tom consists of either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tring of letters, digits, and underscores beginning with a lowercase lett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tring of printable ASCII characters delimited by apostroph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0381D48-DEBC-41CF-94E1-0B2995C64F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erms: Variables and Structu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Variab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ny string of letters, digits, and underscores beginning with an uppercase let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nstanti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binding of a variable to a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sts only as long as it takes to satisfy one complete go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tructur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represents atomic propos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or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arameter lis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A7847FD-63EE-4888-AECA-657C91983D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act State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d for the hypothe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eadless Horn clau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emale(shelley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ale(bill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ther(bill, jake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4BB2E0B-2353-4943-A498-9477F4EDC1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ule State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d for the hypothe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eaded Horn clau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ight side: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nteced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art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y be single term or conjun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eft side: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nsequ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</a:t>
            </a:r>
            <a:r>
              <a:rPr b="1" i="1" lang="en-US" sz="2800" spc="-1" strike="noStrike">
                <a:solidFill>
                  <a:srgbClr val="333399"/>
                </a:solidFill>
                <a:latin typeface="Lucida Sans Unicode"/>
              </a:rPr>
              <a:t>the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art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ust be single ter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njunc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multiple terms separated by logical AND operations (implied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A4E9D4-E4DD-4A34-9A51-52CC184619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 Rul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ancestor(mary,shelley):- mother(mary,shelley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use variables (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univers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objec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 to generalize meaning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arent(X,Y):- mother(X,Y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arent(X,Y):- father(X,Y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grandparent(X,Z):- parent(X,Y), parent(Y,Z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95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A383031-9D3C-4663-A1EC-16710F5D2F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Goal State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theorem proving, theorem is in form of proposition that we want system to prove or disprove –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goal stat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ame format as headless Hor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an(fr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junctive propositions and propositions with variables also legal goa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ther(X, mik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4CE5D6-991F-4CB5-A4D0-277548B9B9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ferencing Process of Prolo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Queries are called goal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 goal is a compound proposition, each of the facts is a subgo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 prove a goal is true, must find a chain of inference rules and/or facts.  For goal Q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:-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:-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Q :- P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Courier New"/>
              </a:rPr>
              <a:t>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cess of proving a subgoal called matching, satisfying, or resol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ED94BAB-5D56-4263-A78B-917521CDC6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pproach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Matching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process of proving a proposi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ving a subgoal is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atisfying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he subgo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Bottom-up resolution, forward chain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egin with facts and rules of database and attempt to find sequence that leads to goa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orks well with a large set of possibly correct answ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Top-down resolution, backward chain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egin with goal and attempt to find sequence that leads to set of facts in databa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orks well with a small set of possibly correct answ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log implementations use backward chain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BF40FA8-9913-414F-8F09-45537911C5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bgoal Strategi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goal has more than one subgoal, can use eith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pth-first search:  find a complete proof for the first subgoal before working on oth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readth-first search: work on all subgoals in parall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log uses depth-first searc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done with fewer computer resour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D44CB7-63C7-4D24-B5BF-A8028AABDA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acktrack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ith a goal with multiple subgoals, if fail to show truth of one of subgoals, reconsider previous subgoal to find an alternative solution: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backtrack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gin search where previous search left off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take lots of time and space because may find all possible proofs to every subgo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FECA668-4C72-4895-AD18-FB87567638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s in logic languages are expressed in a form of symbolic log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 a logical inferencing process to produce resul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clarativ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rather that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ocedur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ly specification of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sult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e stated (not detai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rocedur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producing them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C673BAA-5EEC-4892-ABD9-8D4D2AF122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imple Arithmetic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log supports integer variables and integer arithmet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perator: takes an arithmetic expression as right operand and variable as left operan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B / 17 + C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t the same as an assignment statement!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following is illegal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m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um + Number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22D048A-8CDB-46BC-9A44-D3A2190FB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peed(ford,10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peed(chevy,105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peed(dodge,95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peed(volvo,8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ime(ford,20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ime(chevy,21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ime(dodge,24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ime(volvo,24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istance(X,Y) :-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peed(X,Speed),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ime(X,Time),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Y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Speed * Time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394000"/>
                <a:tab algn="l" pos="2428920"/>
                <a:tab algn="l" pos="2833560"/>
                <a:tab algn="l" pos="3238560"/>
                <a:tab algn="l" pos="3643200"/>
                <a:tab algn="l" pos="4048200"/>
                <a:tab algn="l" pos="4452840"/>
                <a:tab algn="l" pos="4857840"/>
                <a:tab algn="l" pos="5262480"/>
                <a:tab algn="l" pos="5667480"/>
                <a:tab algn="l" pos="6072120"/>
                <a:tab algn="l" pos="6477120"/>
                <a:tab algn="l" pos="6881760"/>
                <a:tab algn="l" pos="7286760"/>
                <a:tab algn="l" pos="7691400"/>
                <a:tab algn="l" pos="8096400"/>
                <a:tab algn="l" pos="8501040"/>
                <a:tab algn="l" pos="8906040"/>
                <a:tab algn="l" pos="9310680"/>
                <a:tab algn="l" pos="9715680"/>
                <a:tab algn="l" pos="1012032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query: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distance(chevy, Chevy_Distance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7FCBF2F-71D8-4293-A0F2-31026F8F005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ra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uilt-in structure that displays instantiations at each ste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racing mode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f execution - four event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al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beginning of attempt to satisfy goal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i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when a goal has been satisfi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do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when backtrack occur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Fai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when goal fail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DA524F5-5E30-4419-A42D-64CDDA88CAF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5506920" y="1295280"/>
            <a:ext cx="3637080" cy="522000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51055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ikes(jake,chocolate)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ikes(jake, apricots)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ikes(darcie, licorice)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ikes(darcie, apricots)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trace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ikes(jake, X), likes(darcie, X)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1 Call: likes(jake, _0)?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1) 1 Exit: likes(jake, chocolate)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2) 1 Call: likes(darcie, chocolate)?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2) 1 Fail: likes(darcie, chocolate)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333399"/>
              </a:buClr>
              <a:buFont typeface="Courier Ne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1 Redo: likes(jake, _0)?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1) 1 Exit: likes(jake, apricots)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3) 1 Call: likes(darcie, apricots)?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(3) 1 Exit: likes(darcie, apricots)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X = apricots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80470F-FE36-462B-89E5-B8FC33EEFC5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Structu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ther basic data structure (besides atomic propositions we have already seen): li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i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sequence of any number of ele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lements can be atoms, atomic propositions, or other terms (including other list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apple, prune, grape, kumquat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]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mpty lis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X | Y]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i="1" lang="en-US" sz="24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head X and tail Y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CD496AC-59D8-44A8-B6DE-60F1786922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ppend 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ppend([], List, List)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ppend([Head | List_1], List_2, [Head | List_3]) :-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append (List_1, List_2, List_3)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BD55EE-6872-4EC3-A296-12888E5D63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ore Exampl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verse([], []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verse([Head | Tail], List) :-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verse (Tail, Result), 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append (Result, [Head], List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(Element, [Element | _]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(Element, [_ | List]) :-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(Element, List)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underscore character means an anonymous variable—it means we do not care what instantiation it might get from unific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5A94678-3F69-4775-9A1F-498D3421DC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ficiencies of Prolo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solution order contro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n a pure logic programming environment, the order of attempted matches is nondeterministic and all matches would be attempted concurrently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losed-world assump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The only knowledge is what is in the databas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negation proble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Anything not stated in the database is assumed to be fals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rinsic limit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t is easy to state a sort process in logic, but difficult to actually do—it doesn’t know how to sort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D9C7C77-C50F-42E1-9201-E21BEFB553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pplications of Logic Programm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ational database management syste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ert syste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atural language process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23B1706-2BB1-477A-B75E-BAEB20C75B9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ymbolic logic provides basis for logic programm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ogic programs should be nonprocedur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log statements are facts, rules, or goa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solution is the primary activity of a Prolog interpre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though there are a number of drawbacks with the current state of logic programming it has been used in a number of area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03502C8-7E03-45B8-B9A3-FA448846CB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posi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logical statement that may or may not be tr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ists of objects and relationships of objects to each oth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C351237-46CC-4EB1-8402-CB61B18CFB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ymbolic Logic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ogic which can be used for the basic needs of formal logic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ress proposi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ress relationships between proposi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cribe how new propositions can be inferred from other proposi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rticular form of symbolic logic used for logic programming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edicat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alcul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ADA696-ABBD-4508-9B0F-6168877CDB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bject Represent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bjects in propositions are represented by simple terms: either constants or variab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nsta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 symbol that represents an obje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Variab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a symbol that can represent different objects at different tim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ifferent from variables in imperative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CDF77E6-E9B2-4AD8-B5F3-FE3AD5EFD6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pound Ter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tomic proposition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onsist of compound ter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mpound ter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one element of a mathematical relation, written like a mathematical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thematical function is a mapp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written as a t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D4D32D-C676-4216-9196-DA1B7221A9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ts of a Compound Term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ound term composed of two par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or: function symbol that names the relationshi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rdered list of parameters (tupl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tudent(jon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ke(seth, OSX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ke(nick, windows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ke(jim, linux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C2BE65-AC04-48F5-AFAE-FA5793EFB9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orms of a Proposi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positions can be stated in two form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Fac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proposition is assumed to be tr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Que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: truth of proposition is to be determin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ound proposition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ve two or more atomic proposi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positions are connected by opera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4:35Z</dcterms:modified>
  <cp:revision>36</cp:revision>
  <dc:subject/>
  <dc:title>Chapter 1</dc:title>
</cp:coreProperties>
</file>