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61868-94C9-4C27-B637-2E42595B1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A10C2-6BBC-4F04-A1CB-2B932050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5C17E-69DB-45E2-B36E-35300C2237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7F80-EDB0-4F1D-888B-87D28872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272-7BCB-43DD-A13C-4AFCCB453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2AE1-0233-4E78-AE61-372C8EB65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1AB42-CC0A-4548-B5B3-AB92AF576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3D6BD-A73D-45E9-A7B6-BA09DB3F7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7E2A-FF67-4B48-941B-53A689A70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6B3A-0D5D-4284-9C14-99FB3DB4F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49AF8-24A4-4214-9971-68F224002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6C86-37FD-4766-815C-E230967DD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F410-6B2E-43F8-890C-EA9ECE84AA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B064-ED1C-4100-8502-C59AA1C14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EEE9-8224-4B16-B94A-7E63E9F17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5212-B7DB-40FE-A38B-A41D02D2A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1EBBF-273E-4E6F-A4B9-116D9D085F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3013-BBA1-420A-8B3F-788BCDD2C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F0A3-F816-43B5-8B8E-BF30522FC9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B19-D1B2-4AB3-9A0B-A896057A4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A076-2AA5-49E5-8309-DE5766A72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4E26-EA49-4A28-9A54-5FDBEFAE39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05FA-D275-488D-8911-92F1E7BE2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8B27-F823-4D71-8B92-58451206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CF309-C049-4FDF-AEEF-1654CF851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93569-19C5-49A4-BD5A-513B4DC407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C462-8C96-455C-969E-16FA9DF31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51C5-ECD2-48FF-8805-90CC2BCD50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4BEE-32C2-4A1C-88D5-4BA15A5AB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11AD-521D-4AF1-8348-00951DE43A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88E6E-4142-438F-80D1-0B0EFE14E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C19D-BF7C-44E0-874E-862565534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1EB2-5337-4387-B278-BFC92B82E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5DB99-A759-446E-8543-5BAA19FE94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F5318-83E7-4CAF-832B-857309E11A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19708-565C-4C71-9E77-12C61ECD74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273CE-0A11-49E9-A5ED-78C758DDE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9C957-F488-4C95-9FD7-7F9BD7C09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0256-496E-4E5A-80D4-F2487565D2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BC201-BBB0-453B-B5F8-84E6347B1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18CE1-93CD-4C45-BEDC-19877C014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012D4-CFF3-4FE5-AA0B-F10972CB46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245B-02BE-414D-B719-56075E2D71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97687-1E06-4713-954A-C6EB98B3C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57EC1-A87D-46C0-99F0-C6496852D8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C37533-13CA-4894-9A37-3095E27BDFA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4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Exception Handling and Event Hand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6D9DB29-A74E-4ED0-8AC9-7D4D6716B2E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ded to C++ in 1990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ign is based on that of CLU, Ada, and M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C9BA33B-92C9-4426-A86B-F07593B24C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++ Exception Handl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ception Handlers Form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- code that is expected to raise an excep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(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formal parameter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-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handler cod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catch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(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formal parameter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-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handler cod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F85BA54-6449-41CC-A93D-5FD2B951D6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</a:t>
            </a:r>
            <a:r>
              <a:rPr b="1" lang="en-US" sz="3600" spc="-1" strike="noStrike">
                <a:solidFill>
                  <a:srgbClr val="666699"/>
                </a:solidFill>
                <a:latin typeface="Courier New"/>
              </a:rPr>
              <a:t>catch</a:t>
            </a: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 Fun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the name of all handlers--it is an overloaded name, so the formal parameter of each must be uniq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ormal parameter need not have a variab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can be simply a type name to distinguish the handler it is in from oth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ormal parameter can be used to transfer information to the handl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ormal parameter can be an ellipsis, in which case it handles all exceptions not yet hand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D5EAC70-B8A3-4CB1-801C-8E5A3642E6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rowing Excep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s are all raised explicitly by the statement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[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pression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];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brackets are metasymbo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without an operand can only appear in a handler; when it appears, it simply re-raises the exception, which is then handled elsewhe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type of the expression disambiguates the intended handl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A8DD3F6-FFE2-4EEE-B85C-409E2E1AC42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nhandled Excep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unhandled exception is propagated to the caller of the function in which it is rais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s propagation continues to the main fun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no handler is found, the default handler is cal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3628EED-1DFE-4F0A-AB76-625ECC21D43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tin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fter a handler completes its execution, control flows to the first statement after the last handler in the sequence of handlers of which it is an elem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ther design choic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exceptions are user-defin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ceptions are neither specified nor declar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default handler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unexpect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simply terminates the program;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unexpect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an be redefined by the us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s can list the exceptions they may rais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ithout a specification, a function can raise any exception (the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7246069-9946-45B1-87AB-12CBDBEB8E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re are no predefined excep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t is odd that exceptions are not named and that hardware- and system software-detectable exceptions cannot be hand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inding exceptions to handlers through the type of the parameter certainly does not promote readabi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4387ED2-0DA2-4821-AB72-B8541E7ADDB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Jav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that of C++, but more in line with OOP philosoph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exceptions are objects of classes that are descendants of th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Throwab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02B326-5B63-49F6-9B3D-19532349AF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asses of Excep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Java library includes two subclasses of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Throwabl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rro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Thrown by the Java interpreter for events such as heap overflow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Never handled by user program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xcep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User-defined exceptions are usually subclasses of thi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Has two predefined subclasses, </a:t>
            </a:r>
            <a:r>
              <a:rPr b="0" lang="en-US" sz="1900" spc="-1" strike="noStrike">
                <a:solidFill>
                  <a:srgbClr val="666699"/>
                </a:solidFill>
                <a:latin typeface="Courier New"/>
              </a:rPr>
              <a:t>IOException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and </a:t>
            </a:r>
            <a:r>
              <a:rPr b="0" lang="en-US" sz="1900" spc="-1" strike="noStrike">
                <a:solidFill>
                  <a:srgbClr val="666699"/>
                </a:solidFill>
                <a:latin typeface="Courier New"/>
              </a:rPr>
              <a:t>RuntimeException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(e.g., </a:t>
            </a:r>
            <a:r>
              <a:rPr b="0" lang="en-US" sz="1900" spc="-1" strike="noStrike">
                <a:solidFill>
                  <a:srgbClr val="666699"/>
                </a:solidFill>
                <a:latin typeface="Courier New"/>
              </a:rPr>
              <a:t>ArrayIndexOutOfBoundsException</a:t>
            </a: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 and </a:t>
            </a:r>
            <a:r>
              <a:rPr b="0" lang="en-US" sz="1900" spc="-1" strike="noStrike">
                <a:solidFill>
                  <a:srgbClr val="666699"/>
                </a:solidFill>
                <a:latin typeface="Courier New"/>
              </a:rPr>
              <a:t>NullPointerException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9BE4C60-080B-4EAD-8143-32E174B65A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Java Exception Handl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ike those of C++, except every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cat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requires a named parameter and all parameters must be descendants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Throwab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yntax of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is exactly that of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s are thrown with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as in C++, but often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cludes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perator to create the object, as in: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 new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MyException();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8274A50-43E1-4BCA-8613-E29D82252FA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4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roduction to Exception Hand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 Handling in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 Handling in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 Handling in Python and Rub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roduction to Event Hand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ent Handling with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ent Handling in C#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E9A2801-D581-4C8D-B068-37F86D5FF27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Binding Exceptions to Handl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inding an exception to a handler is simpler in Java than it is in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exception is bound to the first handler with a parameter is the same class as the thrown object or an ancestor of 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exception can be handled and rethrown by including a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the handler (a handler could also throw a different exception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87781C3-5C7F-485C-AF6C-DCF725723E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tin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no handler is found in the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onstruct, the search is continued in the nearest enclosing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onstruct, etc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no handler is found in the method, the exception is propagated to the method’s call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no handler is found (all the way to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mai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, the program is termin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o insure that all exceptions are caught, a handler can be included in any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onstruct that catches all excep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mply use a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xceptio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lass parame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Of course, it must be the last in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onstruc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74593C5-2386-48D2-AEF6-A61C95C3390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ecked and Unchecked Excep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Java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is quite different from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of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s of class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RunTimeExcep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all of their descendants are called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unchecked exceptions;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other exceptions are called 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checked excep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hecked exceptions that may be thrown by a method must be either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isted in the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, 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andled in the metho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06057D-B455-497B-9F21-84B0991570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Other Design Choic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method cannot declare more exceptions in its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than the method it overrid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method that calls a method that lists a particular checked exception in its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has three alternatives for dealing with that exception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atch and handle the excep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atch the exception and throw an exception that is listed in its ow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lau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eclare it in it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lause and do not handle i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58397A-89C1-4D4D-94E4-1F8654032F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</a:t>
            </a:r>
            <a:r>
              <a:rPr b="1" lang="en-US" sz="3600" spc="-1" strike="noStrike">
                <a:solidFill>
                  <a:srgbClr val="666699"/>
                </a:solidFill>
                <a:latin typeface="Courier New"/>
              </a:rPr>
              <a:t>finally</a:t>
            </a: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 Claus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appear at the end of a try construc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m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urpose: To specify code that is to be executed, regardless of what happens in 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onstruc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38CC48B-A811-4276-9E87-9BBB917ECE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amp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try construct with a finally clause can be used outside exception handl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or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(index = 0; index &lt; 100; index++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(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…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** end of if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** end of try clau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** end of try construc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70AAFF6-AF12-42D9-9711-6F4E985558B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sser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tements in the program declaring a boolean expression regarding the current state of the compu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evaluated to true nothing happe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evaluated to false an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ssertionErro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exception is throw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be disabled during runtime without program modification or recompil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wo for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conditio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sser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conditio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: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expressio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5207ED-C7C1-4757-9FE4-6A26C3DD313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types of exceptions makes more sense than in the case of C++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is better than that of C++ (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in C++ says little to the programmer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is often usefu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Java interpreter throws a variety of exceptions that can be handled by user 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Pyth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s are objects; the base class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aseExcep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predefined and user-defined exceptions are derived from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edefined subclasses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r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rithmetic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subclasses ar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Overflow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ZeroDivision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ingPoint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ookup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subclasses ar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dex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Key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D4B9FB9-64B2-4AFF-9092-8FA279D85D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Python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r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block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xception1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Handler for Exception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xception2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Handler for Exception2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block (no exception is raised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inall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inall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block (do it no matter what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B172710-DDAB-455F-9198-BBB4E94C20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535F47-00E1-446E-AA1F-02ECA45299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 to Exception Handl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a language without exception hand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an exception occurs, control goes to the operating system, where a message is displayed and the program is termin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a language with exception hand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s are allowed to trap some exceptions, thereby providing the possibility of fixing the problem and continu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Python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andlers handle the named exception plus all subclasses of that exception, so if the named exception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it handlers all predefined and user-defined excep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nhandled exceptions are propagated to the nearest enclosing try block; if no handler is found, the default handler is cal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aise IndexError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reates an instanc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raised exception object can be gotten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xceptio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x_obj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B4A11F-20F6-497D-AA3D-CBAB5D9DCB3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Python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sser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tatement tests its Boolean expression (first parameter) and sends its second parameter to the constructor for the exception object to be rais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ssert test, dat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B2B09C1-4650-4699-A634-5F1D147BD6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Rub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s are objec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re are many predefined excep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exceptions that are user handled are either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ndard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ss or a subclass of i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ndardErro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derived from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cep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hich has two methods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essag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acktra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s can be rais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ais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hich often has the form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ais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″bad parameter″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count == 0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57B1D84-D988-475E-AAAC-9E204E78BDF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Ruby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andlers are placed at the end of a begin-end block of code; introduced by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sc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egi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- Statements in the block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sc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- Handl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block could includ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/or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nsur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s, which are lik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inall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2147E41-0AAD-4025-A60D-210EBB6B068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in Ruby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nlike the other languages we have discussed, in Ruby the code that raised an exception can be rerun by placing 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tr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tatement at the end of the handl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8551F9-A041-46F8-B408-871B4D12E3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4517C1-304B-402F-8E1F-3D30A6BBDA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 to Event Handl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ev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notification that something specific has occurred, such as a mouse click on a graphical butt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event handle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segment of code that is executed in response to an ev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1D9E771-5954-478C-BA3E-87F70AE21A5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Java Swing GUI Compon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ext box is an object of clas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JTextFiel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adio button is an object of clas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JRadioButt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pplet’s display is a frame, a multilayered structu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tent pane is one layer, where applets put outpu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UI components can be placed in a fr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yout manager objects are used to control the placement of compon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F45114-31A9-4607-BFD7-DA59861490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Java Event Model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r interactions with GUI components create events that can be caught by event handlers,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event listen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event generator tells a listener of an event by sending a message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interface is used to make event-handling methods conform to a standard protoco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class that implements a listener must implement an interface for the listener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BBAFFB-2033-4BE5-8ADE-DAC74F4D00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Java Event Model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ne class of events i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temEv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hich is associated with the event of clicking a checkbox, a radio button, or a list it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temListener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erface prescribes a method,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temStateChange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hich is a handler for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temEve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v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listener is created with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ddItemListen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ent Handling in C#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ent handling in C# (and the other .NET languages) is similar to that in Java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NET has two approaches, Windows Forms and Windows Presentation Foundation—we cover only the former (which is the original approach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application subclasses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orm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predefined class (defined i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ystem.Windows.Form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re is no need to create a frame or panel in which to place the GUI componen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abe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bjects are used to place text in the window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adio buttons are objects of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adioButt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F7ED71D-D9E3-4279-A5C5-99091F57FB1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713810B-18A6-4EA9-BAA5-D5A958B7C5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Basic Concep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ny languages allow programs to trap input/output errors (including EOF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cept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ny unusual event, either erroneous or not, detectable by either hardware or software, that may require special proces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pecial processing that may be required after detection of an exception is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ception handl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exception handling code unit is called an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xcept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handl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ent Handling in C#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onents are positioned by assigning a new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oi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bject to the Location property of the compon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RadioButton plain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RadioButton()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lain.Location =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Point(100, 300)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lain.Text = ″Plain″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controls.Add(plain)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C# event handlers have the same protocol, the return type i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the two parameters are of type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objec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ventArg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7688C5-E101-42D8-A678-9D8D937BF1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ent Handling in C#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event handler can have any nam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radio button is tested with the Boolean Checked property of the butt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 void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rb_CheckedChanged 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object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o,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           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EventArgs e) {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(plain.Checked) …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o register an event, a new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ventHandle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bject must be created and added to  the predefined delegate for the ev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4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9E91782-7C33-4CCB-A1B5-90272BE704F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ent Handling in C#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n a radio button changes from unchecked to checked,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heckedChange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vent is rais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associated delegate is referenced by the name of the ev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the handler was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b_CheckedChange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e could register it on the radio button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lai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with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lain.CheckedChanged +=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ventHandler (rb_CheckedChanged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67D7E60-8EF2-40AB-A45F-B514F6A0203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A90F6A3-898F-4A24-B9A6-5988EAB111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da provides extensive exception-handling facilities with a comprehensive set of built-in exceptions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++ includes no predefined exceptions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ceptions are bound to handlers by connecting the type of expression in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hrow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statement to that of the formal parameter of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catch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fun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ava exceptions are similar to C++ exceptions except that a Java exception must be a descendant of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rowabl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lass.  Additionally Java includes 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finally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clau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 event is a notification that something has occurred that requires handling by an event handl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Java event handling is defined on the Swing componen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# event handling is the .NET model, which is similar to the Java mode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AF44C84-6F81-411D-8F70-8FE1B81C4F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Alternativ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exception is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ais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when its associated event occu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language that does not have exception handling capabilities can still define, detect, raise, and handle exceptions (user defined, software detect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ternative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nd an auxiliary parameter or use the return value to indicate the return status of a subprogra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ss a label parameter to all subprograms (error return is to the passed label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ss an exception handling subprogram to all subprogram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0EC0506-F0DF-4094-8839-A6E584DF88C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vantages of Built-in Exception Handl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rror detection code is tedious to write and it clutters the 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 handling encourages programmers to consider many different possible err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ception propagation allows a high level of reuse of exception handling cod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03F61E1-8320-4174-AA67-55D90B8CC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and where are exception handlers specified and what is their scope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is an exception occurrence bound to an exception handler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information about the exception be passed to the handler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re does execution continue, if at all, after an exception handler completes its execution? (continuation vs. resumption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some form of finalization provid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730395D-6F0F-42DE-8920-FDD982C3432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are user-defined exceptions specifi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hould there be default exception handlers for programs that do not provide their own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predefined exceptions be explicitly rais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e hardware-detectable errors treated as exceptions that can be handl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re there any predefined exceptions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can exceptions be disabled, if at all?  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9E57569-B5E5-4717-B802-E5531BA8D8C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xception Handling Control Flow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46748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4:13Z</dcterms:modified>
  <cp:revision>50</cp:revision>
  <dc:subject/>
  <dc:title>Chapter 1</dc:title>
</cp:coreProperties>
</file>