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EDC1-6F48-4CE1-B479-AF89EC3AA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A144-8A9D-4E84-9232-B08728259C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1CB7A-1616-4A9B-AA44-8407EF94F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C841-1D8F-4392-B73A-0B19EDAA21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1DD12-3042-4EA6-8B6D-556AA5935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4722-68AC-457A-BE90-F5DB0A902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C5D9-E9D9-4486-BDE0-207F436E29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DDE-3DE6-4CBE-BAA6-B5CEC63BBF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184F-33F3-41C6-8B7E-5C14E2881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652-076A-46F3-8310-1A202D2B6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C0C4-DF3E-4407-9237-885F33815A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8968B-7F10-4EC1-A2DF-873143D65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539E-CA32-41D4-AAE2-19AB13E71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1C14-7672-48ED-BF2E-1B52936AC9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7205-1D6A-49A4-BA79-2694F6918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71A2F-3281-4295-A4CE-7912C38E47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B97E-E1C4-4CED-8D80-B204AABA23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E5FD-70F9-4DCC-B24A-4ACF0C53E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52239-1E22-48E9-B354-6C790D696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CE43-AD0B-49A2-B76E-11DDC4D0C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6A976-931D-4A93-9686-A832CFECB2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D2B7-4266-41FD-9A12-AA05B6557A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021C5-4701-43E4-AFF9-1255E04B21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4003-D801-4076-8E4A-BA1D8A2DB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8C0F-8097-40EB-B735-9D67A8D3F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1E1B-2279-4664-A4BF-5A6668478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1C949-DCC7-46E8-B3D4-F6D68FB41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791F9-C294-4B0D-9574-7C6CD0B10F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BD0B3-47C4-487C-A816-58958EFA7F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9FEA-FC1D-4371-AFCD-90673AF52E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20F7-75C5-480E-8D0C-6583A736A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9C5B-971F-45D9-95FB-D372DCC69C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5C980-ADF3-49F0-A1C7-91811165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7FFE-DCE1-40C3-B71E-7B22900FEF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E6CC0-7741-4B4F-A0CC-4046DCEB80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8A8AD-2ED9-4B4F-8192-2EDDD5AE72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40976-3636-4435-AB04-4CABE97E18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8FFF-E01C-4782-A926-F913D256A9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C5AA-D0F0-47A5-8231-13E3116184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36AC9-D708-459F-A6B1-128A4D547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5C3DB-4A9B-4D36-BFB8-B10BFBC41B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7170-E026-432B-93DF-398EC69F0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B160-A7A1-4085-8F76-B488DF996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DABA7-BED2-407B-AD3B-8B82EDBD9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93C12-B6AF-448A-B3A2-01B84DCE11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B851F-1478-4A37-AC70-851CF195C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51E0C-2294-4F0E-9B78-21A810FDAA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C864774-68F3-43B4-83E6-2B36A62139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1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Abstract Data Types and Encapsulation Concep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B460790-934F-41B4-AA3B-6C944245F6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Language Examples: C++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structor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s to initialize the data members of instances (they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do no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create the object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y also allocate storage if part of the object is heap-dynam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include parameters to provide parameterization of the objec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licitly called when an instance is crea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be explicitly call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 is the same as the class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E631700-9D71-414F-8F86-7CEB1F98CAA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Language Examples: C++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structo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Functions to cleanup after an instance is destroyed; usually just to reclaim heap stor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licitly called when the object’s lifetime en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be explicitly call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e is the class name, preceded by a tilde (~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B185D94-6F74-4946-B0CE-640937A63ED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Example in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*stackPtr, maxLen, topPt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() { // a constructo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Ptr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ew 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[100]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 = 99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opPtr = -1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~Stack () {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le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[] stackPtr;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ush 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number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(topSub == maxLen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cerr &lt;&lt; ″Error in push - stack is full\n″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Ptr[++topSub] = numb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op () {…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top () {…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empty () {…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 </a:t>
            </a:r>
            <a:r>
              <a:rPr b="0" lang="en-US" sz="3200" spc="-1" strike="noStrike">
                <a:solidFill>
                  <a:srgbClr val="666699"/>
                </a:solidFill>
                <a:latin typeface="Courier New"/>
                <a:ea typeface="Courier New"/>
              </a:rPr>
              <a:t>Stack</a:t>
            </a: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 class header fil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// Stack.h - the header file for the Stack clas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#include &lt;iostream.h&gt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class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 //** These members are visible only to othe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//** members and friends (see Section 11.6.4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*stackPt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opPtr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: //** These members are visible to client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(); //** A constructo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~Stack(); //** A destructo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ush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op(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top(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empty(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5F0C4D9-EE59-4D1F-A008-2D24CA5FE1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code file for </a:t>
            </a:r>
            <a:r>
              <a:rPr b="0" lang="en-US" sz="3200" spc="-1" strike="noStrike">
                <a:solidFill>
                  <a:srgbClr val="666699"/>
                </a:solidFill>
                <a:latin typeface="Courier New"/>
                <a:ea typeface="Courier New"/>
              </a:rPr>
              <a:t>Stack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09120" y="1447560"/>
            <a:ext cx="81536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// Stack.cpp - the implementation file for the Stack clas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#include &lt;iostream.h&gt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#include "Stack.h"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using std::cout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::Stack() { //** A constructo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Ptr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ew 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[100]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 = 99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opPtr = -1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::~Stack() {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le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[] stackPtr;}; //** A destructo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::push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number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(topPtr == maxLen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cerr &lt;&lt; "Error in push--stack is full\n"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Ptr[++topPtr] = numb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4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6CDA3B-B1BA-4581-B7F5-98AD899F2C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Language Examples: C++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Friend functions or class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- to provide access to private members to some unrelated units or 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cessary in C+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4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E3C857-E64F-4509-8A26-E141A2C3B78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07BF33B-A582-460F-9C94-D1171BC4153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terface contain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interfac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class-name: parent-clas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instance variable declarat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method prototyp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e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lementation contain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implementation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class-nam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method definit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en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asses are typ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ethod prototypes for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+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|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) (return-type) method-name [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: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(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ormal-parameter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]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Plus indicates a class metho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Minus indicates an instance metho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colon and the parentheses are not included when there are no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Parameter list format is differ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If there is one parameter (name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eth1: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 meth1: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 x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For two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 meth2: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 x second: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) y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he name of the method i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meth2: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0328CEB-B660-4259-ADFD-A1982F9AF6B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ethod call synta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object-name method-name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ample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myAdder add1: 7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myAdder add1: 7: 5: 3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- For the method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-(int) meth2: (int) x second: (float) y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the call would be like the following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myObject meth2: 7 second: 3.2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4DCB39C-DC26-4AE5-AC6C-5ADA83BEF1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structors are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nitializer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– all they do is initialize variab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itializers can have any name – they are always called explicitl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itializers always return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elf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Objects are created by calling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lloc</a:t>
            </a:r>
            <a:r>
              <a:rPr b="1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and the construct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dder *myAdder = [[Adder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lloc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] init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All class instances are heap 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8B6134A-F778-49AC-94B3-93A78F73614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0F95158-34AB-40F4-BA91-6A7F54C450D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1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ncept of Abstra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troduction to Data Abstrac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Design Issues for Abstract Data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nguage Examp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ameterized Abstract Data Typ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ncapsulation Construc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aming Encapsul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o import standard prototypes (e.g., i/o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#import &lt;Foundation/Foundation.h&gt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irst thing a program must do is allocate and initialize a pool of storage for its data (pool’s variable i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oo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n this cas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SAutoreleasePool * pool =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[NSAutoreleasePool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alloc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] init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t the end of the program, the pool is released with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pool drain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70BD3F0-01B9-4430-9C36-C4505541BB2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formation Hid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directives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privat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@public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re used to specify the access of instance variables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default access is protected (private in C++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re is no way to restrict access to metho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name of a getter method is always the name of the instance variab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name of a setter method is always the word set with the capitalized variable’s name attach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the getter and setter for a variable does not impose any constraints, they can be implicitly generated (called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roperties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9BFCB23-BCB7-4AB5-B936-D0D6A42535A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// stack.m – interface and implementation for a simple stack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#import &lt;Foundation/Foundation.h&gt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interface Stack: NSObject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Array[100], stackPtr,maxLen, topSub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push: 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numb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pop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top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empty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implementation Stack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(Stack *) initWith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 = 100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topSub = -1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Ptr = stackArray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 sel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A744F8D-3662-42DB-A1A4-CD1B774E0C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// stack.m – continue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-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push: 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 number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(topSub == maxLen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SLog(@″Error in push – stack is full″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Ptr[++topSub] = number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1DDC80D-368A-4E36-8E54-F51438031D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 – Objective-C </a:t>
            </a: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example use of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.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Placed in the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implementa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 of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.m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main (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argc,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char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*argv[]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temp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NSAutoreleasePool *pool = [[NSAutoreleasePool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alloc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] init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 *myStack = [[Stack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alloc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] initWith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[myStack push: 5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[myStack push: 3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 = [myStack top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NSLog(@″Top element is: %i″, temp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[myStack pop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 = [myStack top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NSLog(@″Top element is: %i″, temp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 = [myStack top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myStack pop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[myStack release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[pool drain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0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92DBA16-2768-45FB-9B9E-C04D9C16C7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2B9C28C-F462-4CAB-BE45-DC288A9BB3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: Jav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milar to C++, except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user-defined types are cla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objects are allocated from the heap and accessed through reference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dividual entities in classes have access control modifiers (private or public), rather than clau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Implicit garbage collection of all objec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ava has a second scoping mechanism, package scope, which can be used in place of frien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lnSpc>
                <a:spcPct val="90000"/>
              </a:lnSpc>
              <a:spcBef>
                <a:spcPts val="524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All entities in all classes in a package that do not have access control modifiers are visible throughout the package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39206EF-3430-4AC0-84E8-C38C95D866F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Example in Jav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class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Class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: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 in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] *stackRef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 in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] maxLen, topIndex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Class() { // a constructo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Ref =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ew in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[100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 = 99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opPtr = -1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voi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sh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num) {…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voi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op () {…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int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op () {…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boolea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empty () {…}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F4F4FD8-8652-4A10-8CB4-08213CF3E6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: C#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C++ and Jav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ds two access modifiers,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intern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otected interna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class instances are heap 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fault constructors are available for all clas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Garbage collection is used for most heap objects, so destructors are rarely us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struc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 are lightweight classes that do not support inheritanc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FFA155C-180B-4FB2-BC3D-62EFF37CC7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: C#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mon solution to need for access to data members: accessor methods (getter and setter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 provide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properti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as a way of implementing getters and setters without requiring explicit method cal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A6B577F-946A-4291-B39C-9CFF15DBB79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# Property Example 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371600"/>
            <a:ext cx="7467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class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Weather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ublic 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DegreeDays { //** DegreeDays is a property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get {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degreeDays;}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set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f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(value &lt; 0 || value &gt; 30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Console.WriteLine(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     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"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Value is out of range: {0}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"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, value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els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degreeDays = value;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private 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degreeDays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Weather w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Weather(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degreeDaysToday, oldDegreeDays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w.DegreeDays = degreeDaysToday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oldDegreeDays = w.DegreeDays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338040"/>
                <a:tab algn="l" pos="676440"/>
                <a:tab algn="l" pos="1014480"/>
                <a:tab algn="l" pos="1352520"/>
                <a:tab algn="l" pos="1690560"/>
                <a:tab algn="l" pos="2028960"/>
                <a:tab algn="l" pos="2367000"/>
                <a:tab algn="l" pos="2705040"/>
                <a:tab algn="l" pos="3043080"/>
                <a:tab algn="l" pos="3381480"/>
                <a:tab algn="l" pos="3719520"/>
                <a:tab algn="l" pos="4057560"/>
                <a:tab algn="l" pos="4395960"/>
                <a:tab algn="l" pos="4734000"/>
                <a:tab algn="l" pos="5072040"/>
                <a:tab algn="l" pos="5410080"/>
                <a:tab algn="l" pos="5748480"/>
                <a:tab algn="l" pos="6086520"/>
                <a:tab algn="l" pos="6424560"/>
                <a:tab algn="l" pos="67626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C0261B9-080B-4DE2-9EB3-6CE3EC17A08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Concept of Abstra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bstrac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view or representation of an entity that includes only the most significant attribut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concept of abstraction is fundamental in programming (and computer scienc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arly all programming languages support process abstraction with 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arly all programming languages designed since 1980 support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ata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bstrac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B248F95-ACC4-449E-A939-AB3FED8EA22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bstract Data Types in Rub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ncapsulation construct is the clas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cal variables have “normal” nam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stance variable names begin with “at” signs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@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ass variable names begin with two “at” signs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@@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stance methods have the syntax of Ruby functions (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f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…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nd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nstructors are named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itializ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only one per class)—implicitly called whe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call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f more constructors are needed, they must have  different names and they must explicitly call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ass members can be marked private or public, with public being the defaul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asses are dynam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6AD203D-0FD5-4165-990E-FE1312D5DBA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bstract Data Types in Ruby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class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Class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initializ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stackRef = Array.new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maxLen = 100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topIndex = -1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ush(number)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@topIndex == @maxLen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ts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"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rror in push – stack is full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"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topIndex = @topIndex + 1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@stackRef[@topIndex] = number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pop …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top …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de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empty …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nd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F4B2DD3-A83A-4BE2-A968-EAC124086D1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2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ized Abstract Data Types</a:t>
            </a:r>
            <a:br>
              <a:rPr sz="3600"/>
            </a:b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arameterized ADTs allow designing an ADT that can store any type elements – only an issue for static typed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so known as generic clas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++, Java 5.0, and C# 2005 provide support for parameterized AD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DA1CE42-0F21-47D4-A894-8787DC7441B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ized ADTs in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Lucida Sans Unicode"/>
              </a:rPr>
              <a:t>Classes can be somewhat generic by writing parameterized constructor functions</a:t>
            </a:r>
            <a:endParaRPr b="0" lang="en-US" sz="32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Stack (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size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stk_ptr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</a:rPr>
              <a:t>new 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[size];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max_len = size - 1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top = -1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declaration of a stack object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Stack stk(150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F35AFC7-7A97-41E8-AB7E-51F66BD27D6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Parameterized ADTs in C++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he stack element type can be parameterized by making the class a templated class</a:t>
            </a:r>
            <a:br>
              <a:rPr sz="20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templat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&lt;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Type&gt;</a:t>
            </a:r>
            <a:br>
              <a:rPr sz="1400"/>
            </a:b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lass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Stack {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private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Type *stackPtr;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const int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maxLen;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i="1" lang="en-US" sz="1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topPtr;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public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: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Stack() {  // Constructor for 100 elements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stackPtr =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Type[100];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maxLen = 99;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topPtr = -1;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Stack(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size) {  // Constructor for a given number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stackPtr = 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new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Type[size]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maxLen = size – 1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topSub = -1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}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...</a:t>
            </a:r>
            <a:br>
              <a:rPr sz="1400"/>
            </a:b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-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stantiation: 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Stack&lt;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</a:rPr>
              <a:t>&gt; myIntStack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3C75FDE-BC83-4F68-9D8C-1643364BCD2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ized Classes in Java 5.0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eneric parameters must be cla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st common generic types are the collection types, such a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LinkedLis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nd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ArrayLis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liminate the need to cast objects that are remov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liminate the problem of having multiple types in a structu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sers can define generic cla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Generic collection classes cannot store primitiv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dexing is not supported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ample of the use of a predefined generic clas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ArrayList &lt;Integer&gt; myArray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ArrayList &lt;Integer&gt; (); 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yArray.add(0, 47);  // Put an element with subscript 0 in it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ized Classes in Java 5.0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1295280"/>
            <a:ext cx="81536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mport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java.util.*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class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2&lt;T&gt;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ArrayList&lt;T&gt; stackRef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rivate int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2)(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Ref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ArrayList&lt;T&gt; (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maxLen = 99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blic void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push(T newValue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(stackRef.size() == maxLen)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ystem.out.println(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"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rror in push – stack is full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"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else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Ref.add(newValue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  <a:ea typeface="Courier New"/>
              </a:rPr>
              <a:t>- Instantiation: 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Stack2&lt;string&gt; myStack = </a:t>
            </a:r>
            <a:r>
              <a:rPr b="1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new</a:t>
            </a:r>
            <a:r>
              <a:rPr b="0" lang="en-US" sz="1600" spc="-1" strike="noStrike">
                <a:solidFill>
                  <a:srgbClr val="333399"/>
                </a:solidFill>
                <a:latin typeface="Courier New"/>
                <a:ea typeface="Courier New"/>
              </a:rPr>
              <a:t> Stack2&lt;string&gt; ()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6474E9C-0EFD-47E6-903E-6E34779814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D70F6AB-C538-409B-826A-0FCB61863C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arameterized Classes in C# 2005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milar to those of Java 5.0, except no wildcard clas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edefined for Array, List, Stack, Queue, and Dictionar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lements of parameterized structures can be accessed through index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38DD5F-83A6-4926-9A47-002AF1B23F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ncapsulation Construc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rge programs have two special need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me means of organization, other than simply division into sub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me means of partial compilation (compilation units that are smaller than the whole program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bvious solution: a grouping of subprograms that are logically related into a unit that can be separately compiled (compilation unit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ch collections are called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encapsul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F7DBEAB-E1DD-457B-BDCE-9C2F47E47E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ested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rganizing programs by nesting subprogram definitions inside the logically larger subprograms that use the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Nested subprograms are supported in Python, JavaScript, and Rub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E9BCF90-B095-4346-B05C-743B66D389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troduction to Data Abstra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bstract data typ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user-defined data type that satisfies the following two condition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representation of objects of the type is hidden from the program units that use these objects, so the only operations possible are those provided in the type's defini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declarations of the type and the protocols of the operations on objects of the type are contained in a single syntactic unit. Other program units are allowed to create variables of the defined type.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9165E85-8EC0-474A-B07B-54D9F370EE9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ncapsulation in C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les containing one or more subprograms can be independently compi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interface is placed in 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header fi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blem 1: the linker does not check types between a header and associated implemen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blem 2: the inherent problems with poin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#includ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preprocessor specification – used to include header files in applica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097DB1B-E97E-410E-9539-D99EA426C08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ncapsulation in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define header and code files, similar to those of 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r, classes can be used for encapsul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lass is used as the interface (prototype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member definitions are defined in a separate fil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Friend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 provide a way to grant access to private members of a cla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5297445-6242-4E59-862E-3B43C80014E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# Assemblies</a:t>
            </a:r>
            <a:br>
              <a:rPr sz="3200"/>
            </a:b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collection of files that appears to application programs to be a single dynamic link library or executabl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ach file contains a module that can be separately compi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DLL is a collection of classes and methods that are individually linked to an executing 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# has an access modifier called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intern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; an </a:t>
            </a:r>
            <a:r>
              <a:rPr b="0" lang="en-US" sz="2800" spc="-1" strike="noStrike">
                <a:solidFill>
                  <a:srgbClr val="333399"/>
                </a:solidFill>
                <a:latin typeface="Courier New"/>
                <a:ea typeface="Courier New"/>
              </a:rPr>
              <a:t>internal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member of a class is visible to all classes in the assembly in which it appea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4B09E26-9CD7-4533-9FDE-15F1D60A310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ing Encapsulatio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rge programs define many global names; need a way to divide into logical grouping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naming encapsulation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used to create a new scope for nam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++ Namespac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n place each library in its own namespace and qualify names used outside with the namespa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# also includes namespac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F5C8628-8CF2-4948-BD6A-19E8A69CBE8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ing Encapsulation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Java Pack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ckages can contain more than one class definition; classes in a package ar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partial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rien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lients of a package can use fully qualified name or use the </a:t>
            </a:r>
            <a:r>
              <a:rPr b="1" i="1" lang="en-US" sz="2400" spc="-1" strike="noStrike">
                <a:solidFill>
                  <a:srgbClr val="333399"/>
                </a:solidFill>
                <a:latin typeface="Courier New"/>
              </a:rPr>
              <a:t>impor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declar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29D7805-658B-4211-AC9D-A04B74A1B6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aming Encapsulations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Ruby Module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Ruby classes are name encapsulations, but Rub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so has modu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ypically encapsulate collections of constants a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etho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Modules cannot be instantiated or subclassed, an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y cannot define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Methods defined in a module must include th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dule’s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Access to the contents of a module is requested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ith the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requir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metho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B745F0C-9366-4493-8537-6AC1AB0BDC5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ncept of  ADTs and their use in program design was a milestone in the development of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wo primary features of ADTs are the packaging of data with their associated operations and information hid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da provides packages that simulate AD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++ data abstraction is provided by class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ava’s data abstraction is similar to C++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++, Java 5.0, and C# 2005 support parameterized ADT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++, C#, Java, and Ruby provide naming encapsul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822D8AD-3E5C-4C3A-B26E-7D26C44CEE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dvantages of Data Abstra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vantages the first condition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liability--by hiding the data representations, user code cannot directly access objects of the type or depend on the representation, allowing the representation to be changed without affecting user cod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duces the range of code and variables of which the programmer must be awar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Name conflicts are less likel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dvantages of the second cond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vides a method of program organiz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ids modifiability (everything associated with a data structure is together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parate compil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B9A3A40-9BD8-429B-8462-D7EE1EA3B37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Requirements for AD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syntactic unit in which to encapsulate the type defini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method of making type names and subprogram headers visible to clients, while hiding actual defini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ome primitive operations must be built into the language process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F3EEF1A-C149-49F5-B468-A5DA23C1FC3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esign Issu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n abstract types be parameteriz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hat access controls are provided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s the specification of the type physically separate from its implementation?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7BD1B1E-C809-4A89-9355-FFD12D9E1B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xamples: C++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ased on C </a:t>
            </a:r>
            <a:r>
              <a:rPr b="1" lang="en-US" sz="2800" spc="-1" strike="noStrike">
                <a:solidFill>
                  <a:srgbClr val="333399"/>
                </a:solidFill>
                <a:latin typeface="Courier New"/>
              </a:rPr>
              <a:t>struc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type and Simula 67 class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class is the encapsulation devic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class is a typ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ll of the class instances of a class share a single copy of the member fun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ach instance of a class has its own copy of the class data memb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stances can be static, stack dynamic, or heap dynamic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7B20578-D4FD-483C-8360-CB11DDD726A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Language Examples: C++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formation Hid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lau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hidden entit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ublic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lau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interface entit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Lucida Sans Unicode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laus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for inheritance (Chapter 12)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3:50Z</dcterms:modified>
  <cp:revision>56</cp:revision>
  <dc:subject/>
  <dc:title>Chapter 1</dc:title>
</cp:coreProperties>
</file>